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7680"/>
            <a:ext cx="28893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04A6-DF30-4D84-9620-2F23E8803B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072D-7742-44CB-9C70-1B4EA06CA30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По заданным оператором характеристикам безопасности персональных данных, обрабатываемых в информационной системе, информационные системы подразделяются на типовые и специальные информационные 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овые информационные системы – системы, в которых требуется обеспечение только конфиденциальности персональных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ые информационные системы – системы, в которых вне зависимости от необходимости обеспечения конфиденциальности персональных данных требуется обеспечить хотя бы одну из характеристик безопасности персональных данных, отличную от конфиденциальности (защищенность от уничтожения, изменения, блокирования, а также иных несанкционированных действи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специальным информационным системам должны быть отнесе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нформационные системы, в которых обрабатываются персональные данные, касающиеся состояния здоровья субъектов персональных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нформационные системы, в которых предусмотрено принятие на основании исключительно автоматизированной обработки персональных данных решений, порождающих юридические последствия в отношении субъекта персональных данных или иным образом затрагивающих его права и законные интере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375E-BE0E-4C05-84C5-FA6E41D9E3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егория 4 – обезличенные и (или) общедоступные персональные да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егория 3 – персональные данные, позволяющие идентифицировать субъекта персональных дан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егория 2 – персональные данные, позволяющие идентифицировать субъекта персональных данных и получить о нем дополнительную информацию, за исключением персональных данных, относящихся к категории 1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категория 1 – персональные данные, касающиеся расовой, национальной принадлежности, политических взглядов, религиозных и философских убеждений, состояния здоровья, интим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BDD5-C3A0-4B19-ADF6-BCEDA59E3F0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6. 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. X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нпд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ожет принимать следующие значен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1 – в информационной системе одновременно обрабатываются персональные данные более чем 100 000 субъектов персональных данных или персональные данные субъектов персональных данных в пределах субъекта Российской Федерации или Российской Федерации в целом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2 – в информационной системе одновременно обрабатываются персональные данные от 1 000 до 100 000 субъектов персональных данных или персональные данные субъектов персональных данных, работающих в отрасли экономики Российской Федерации, в органе государственной власти, проживающих в пределах муниципального образования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3 – в информационной системе одновременно обрабатываются данные менее чем      1 000 субъектов персональных данных или персональные данные субъектов персональных данных в пределах конкретной организаци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4F46-0669-4660-A383-E626CCA91B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какой категории данных Вы бы отнесли ФИО+ИНН (или вместо ИНН № пенсионного полиса, или серия-номер паспорта, или номер вод.удостоверения, или т.п.)? Смущает то, что любой из этих номеров уникален и идентифицирует личность даже без ФИ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юбую комбинацию типа ФИО + номер одного из указанных документов, я бы отнес к категории 3, поскольку такая комбинация во-первых - уникальна, а во-вторых – однозначно идентифицирует субъекта. Любой из этих номеров, конечно же, уникален, но без ФИО никак человека не идентифицирует. Для идентификации понадобится база данных, содержащая список таких номеров и привязанные к ним ФИО. А вот если комбинация будет ФИО+ номер + еще номер, то это уже 2 категория персональных да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2304C-FF43-48F2-8700-D688893D3D1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чего персональные данные относятся к 2 или 3 категории? Какие данные позволяют получить дополнительную информацию о субъекте, а какие просто его идентифицир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понимаете, всё, что у нас есть – это Приказ ФСБ/ФСТЭК/МинСвязи от 13 февраля 2008 года N 55/86/20 «Об утверждении Порядка проведения классификации информационных систем персональных данных». Весь вопрос в трактовке. Мы понимаем это так. Возьмем, к примеру, любую анкету. Идентифицировать субъекта можно по его ФИО + паспортные данные, или по ФИО+ адрес и год рождения (тогда это категория 3 ПДн). Все остальное, сведения об образовании, о местах работы, о размерах заработка, номера телефонов, других документов – все это дополнительная информация о субъекте (категория 2 ПДн). Иными словами мы подходим к вопросу категоризирования данных с точки зрения необходимости и достаточности. Если каких-то данных достаточно для идентификации субъекта и они остро необходимы для такой идентификации = категория 3. Всё, что идет сверху – дополнительная информация и категория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8CF5-6672-4C72-AE10-1C3B17500F7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E069-488C-44BA-A0A2-5628C32DF66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6. 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7. X</a:t>
            </a:r>
            <a:r>
              <a:rPr b="0" lang="ru-RU" sz="1100" spc="-1" strike="noStrike" baseline="-25000">
                <a:solidFill>
                  <a:srgbClr val="000000"/>
                </a:solidFill>
                <a:latin typeface="Calibri"/>
              </a:rPr>
              <a:t>нпд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может принимать следующие значения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1 – в информационной системе одновременно обрабатываются персональные данные более чем 100 000 субъектов персональных данных или персональные данные субъектов персональных данных в пределах субъекта Российской Федерации или Российской Федерации в целом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2 – в информационной системе одновременно обрабатываются персональные данные от 1 000 до 100 000 субъектов персональных данных или персональные данные субъектов персональных данных, работающих в отрасли экономики Российской Федерации, в органе государственной власти, проживающих в пределах муниципального образования;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- 3 – в информационной системе одновременно обрабатываются данные менее чем      1 000 субъектов персональных данных или персональные данные субъектов персональных данных в пределах конкретной организаци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8EA4-D259-4D18-8DD8-C4F04215BEE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й этап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1938-67C7-4405-B171-4C3DBBB9024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ующий этап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1F54-C4A0-43B6-9372-9FC4AA7B71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D143B-4A3D-454A-A145-29B1315BF4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1D0A-617A-4521-B1AF-E38C6B29EC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1D3A-CF81-4F85-90F7-5810424EBAD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C3D78-DD87-43C9-A371-0A3CE27765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3A37F-D098-42B9-8460-D434C28801F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5793-E0DA-4692-8F52-46403B8B4F7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5F69-4F0D-464A-B23E-632409C5DF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B7891-709D-41E1-8DDE-EAEC80CB50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B4CA7-0C34-4666-848F-0DEFD5AF24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Номер слайда 3"/>
          <p:cNvSpPr/>
          <p:nvPr/>
        </p:nvSpPr>
        <p:spPr>
          <a:xfrm>
            <a:off x="3778200" y="9428040"/>
            <a:ext cx="2889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500F-CA6F-4AC4-8A87-2085368A7A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D5D1-6BAB-455B-9D35-754211311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86BB-A31F-43BF-BF20-C4BD8810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71BD-DA58-4CDA-BF0A-7966C57D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7115-E20B-4E88-BCE8-0BB17C903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2260-CBD4-4E18-8DCE-A205EF2C8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3045-70C5-4140-81A3-62285D52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CE8F-D6CB-4DB9-AB56-B78BBA11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7395-C1E9-4A76-891C-3F7FF41F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2FB0-AE67-4546-9BEB-FE120B228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3AB7-708B-4DEE-A824-0BCF2012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E230-C59F-4C2A-ABB3-2182F040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50EE-86B3-494C-8A62-398FA203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5F50-F192-4EF8-B42C-745E81CC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38C0-8C39-446F-B81C-D3E99114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D95D-1D86-4C29-A2C2-1829C0477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A9814-8103-4FA4-A515-FBE532CCB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0BB64-05ED-44B8-AF77-E8A0ECBCB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44503-4657-47C2-9723-5392D97A8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89279-F57A-4F5F-8E52-2047AD1E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9CF20-71CF-42B3-A120-F7BA77FB1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FFAE4A-99B8-42B8-94BD-CA180597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E707FB-A236-45F6-9D74-374805E1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77BB-5D51-4AA2-B0F3-E96962FB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183F5-58DF-4A7B-B123-83DC60626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7AA36F-8BC5-4CBA-8E66-D49D2140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A04E10-9F73-4803-BE81-CB65F009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C4A61A-C78F-481F-B089-4D6D563E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6A451E-C57D-49E5-92CC-664F55280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7CDB2-B500-47BC-A96B-FC0C0FE53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F8895-8169-495C-98CA-3DF73CE8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B3A82E-CAF4-4E78-A7F9-756E2C8E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927B1-46DA-46EF-A60C-901D86B5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5BA1D-0D3A-49A2-84A0-C6CBC529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5FBA-E72F-40FF-90A7-B2D5A0EC8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E1F5F-6B7F-4C49-95CD-CF90002F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AA640-E5CB-4E51-A197-50C3F01E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BA32E-37DD-4558-AB33-A71E1476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E559D-5F75-4352-A9D5-78AF20B3D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D895F-05FC-44D7-ADAE-8BB520D1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7E48C-BCF7-4285-8F22-F47ADC35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F042-DCD6-4DFE-B28C-1EE3B2FE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CBE09-9F6D-49BD-AC85-F7E6F326F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C6E2C-004F-4282-BD9E-CE7776FCF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114-C487-4D1A-AE8C-E714B74F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0FA3-6AE1-496C-991B-5EB7475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BA99-2DA7-44DE-9BDC-B13D0C34A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3A1-1520-4F97-82BF-21557F51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85EA-255D-4C3F-AE69-56A01FCF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1CDB-3EC4-4A87-9758-86BEDCBF039E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E1A18-9779-4448-8CE7-18596F655502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917C-D3FE-4FE8-91F5-2373148A079C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543D-C3FB-47AE-90B4-12D40A6DD18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КЛАССИФИКАЦИЯ ИНФОРМАЦИОННЫХ СИСТЕМ ПЕРСОНАЛЬНЫХ ДАННЫХ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ерсональные данные. Опреде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Дн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персональные данн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ИСПДн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информационная система персональных дан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СБ России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Федеральная служба безопасности Росс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СТЭК России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Федеральная служба по техническому и экспортному контролю Росс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СП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для служебного пользов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лассификация ИСПД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бор и анализ исходных данных по информационной системе (инвентаризация ресурсов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своение информационной системе соответствующего класса и его документальное оформление (Составление акта)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олное наименование организаци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униципальное общеобразовательное учреждение средняя общеобразовательная школа №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городского округа Тольят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Адрес и ИН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445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X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г. Тольятти, ул. 50 лет Октября,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; ИНН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онтактное лиц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(Должность, ФИО полностью, телефон, электронная почта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меститель директора по УВР  Иванов Иван Иванович, тел.: (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XX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choolXX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tgl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авовое основание обработки персональных данных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(Устав, Положение – наличие вида деятельности по ОКВЭД; наличие выписки из Реестра Операторов персональных данных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мер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ункт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Устава Муниципального общеобразовательного учреждения средней общеобразовательной школы №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городского округа Тольятти, утвержден Распоряжением мэра городского округа Тольятти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(далее Устав)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общеобразовательное учреждение имеет право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ести обработку данных, включая подготовку и ввод персональных данных учащихся и сотрудников учреждения, в том числе и с применением автоматизированных средств обработ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Уведомление об обработк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249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Федеральная служба по надзору в сфере связи, информационных технологий и массовых коммуникаций (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www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soc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ru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правление Роскомнадзора по Самарской области: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43099, г. Самара, ул. А. Толстого, 118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Телефон: (846) 3325326, факс: (846) 2704400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e-mail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ugnsi@smr.ru,  http://63.rsoc.r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Дата, основание внесения записи в реестр Операторов, и регистрационный номер Оператора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можно узнать на официальном сайте Службы</a:t>
            </a:r>
            <a:br>
              <a:rPr sz="2000"/>
            </a:br>
            <a:r>
              <a:rPr b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по адресу:</a:t>
            </a:r>
            <a:br>
              <a:rPr sz="2000"/>
            </a:br>
            <a:r>
              <a:rPr b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pd.rsoc.ru/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5. Наличие документов, регламентирующих работу по обработке ПДн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(Положение (Концепция) о персональных данных, Положение о защите ПДн, Регламент обработки ПДн…)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Пример: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МОУ СОШ №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разработаны и утверждены следующие нормативные документы, регламентирующие обработку персональных данных: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Положение о персональных данных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Общий технологический регламент обработки персональных данны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6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личие Положения о маркировке носителей персональных данны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МОУ СОШ №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разработано и утверждено «Положение о маркировании носителей персональных данных»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еречень собираемых данны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(Наименование всех полей электронной формы базы данных (например, 1С:Зарплата и кадры, поля в АСУ РСО), в которые вводятся персональные данные субъектов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КЛАССИФИКАЦИЯ ИНФОРМАЦИОННЫХ СИСТЕМ ПЕРСОНАЛЬНЫХ ДАННЫХ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214200" y="4071960"/>
            <a:ext cx="84297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Копылова Галина Владимировна</a:t>
            </a:r>
            <a:br>
              <a:rPr sz="2400"/>
            </a:br>
            <a:r>
              <a:rPr b="0" i="1" lang="ru-RU" sz="2000" spc="-1" strike="noStrike">
                <a:solidFill>
                  <a:srgbClr val="424456"/>
                </a:solidFill>
                <a:latin typeface="Georgia"/>
              </a:rPr>
              <a:t>заместитель директора</a:t>
            </a:r>
            <a:br>
              <a:rPr sz="2000"/>
            </a:br>
            <a:r>
              <a:rPr b="0" i="1" lang="ru-RU" sz="2000" spc="-1" strike="noStrike">
                <a:solidFill>
                  <a:srgbClr val="424456"/>
                </a:solidFill>
                <a:latin typeface="Georgia"/>
              </a:rPr>
              <a:t>МОУДПОС Центр информационных технологий</a:t>
            </a:r>
            <a:br>
              <a:rPr sz="2400"/>
            </a:b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+7 (8482) 22-19-40</a:t>
            </a:r>
            <a:br>
              <a:rPr sz="2400"/>
            </a:b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kgv@itc.tgl.r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1"/>
          <a:srcRect l="28694" t="22636" r="27985" b="4392"/>
          <a:stretch/>
        </p:blipFill>
        <p:spPr>
          <a:xfrm>
            <a:off x="2143080" y="2286000"/>
            <a:ext cx="4357800" cy="5143680"/>
          </a:xfrm>
          <a:prstGeom prst="rect">
            <a:avLst/>
          </a:prstGeom>
          <a:ln w="9360">
            <a:solidFill>
              <a:srgbClr val="53548a"/>
            </a:solidFill>
            <a:miter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8.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Объем обрабатываемых персональных данных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(Количество субъектов, персональные данные которых обрабатываются в информационной системе, возможно, за несколько лет)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МОУ СОШ №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имеются следующие информационные системы персональных данных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АИС «1С:Зарплата и кадры» – 50 записей о субъектах персональных данных;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- АСУ РСО – 1 500 записей о субъектах персональных данных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аспределенность субъектов персональных данных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(Варианты: персональные данные субъектов персональных данных в пределах субъекта Российской Федерации или Российской Федерации в целом; персональные данные субъектов персональных данных, работающих в отрасли экономики Российской Федерации, в органе государственной власти, проживающих в пределах муниципального образования; персональные данные субъектов персональных данных в пределах конкретной организации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 МОУ СОШ №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имеются следующие информационные системы персональных данных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АИС «1С:Зарплата и кадры» – данные о работниках МОУ СОШ № 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- АСУ РСО – данные об учащихся, их родителях и (или) законных представителях.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0. Заданные оператором характеристики безопасности персональных данных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(Варианты: информационные системы, в которых необходимо обеспечить только конфиденциальность информации или информационные системы, в которых вне зависимости от необходимости обеспечения конфиденциальности персональных данных, требуется обеспечить хотя бы одну из характеристик безопасности персональных данных, отличную от конфиденциальности (защищенность от уничтожения, изменения, блокирования, а также иных несанкционированных действий)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В автоматизированных информационных системах МОУ СОШ № 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XX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требуется обеспечить следующие характеристики безопасности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 АИС «1С:Зарплата и кадры» – конфиденциальность, защиту от уничтожения, изменения, блокирования;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- АСУ РСО – конфиденциальность, защиту от уничтожения, изменения, блокирования.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11.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Структура (физическая) информационной системы (схема)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(Состав технических средств и систем, предполагаемых к использованию, условия их расположения, топология ЛВС: автономные, локальные информационные системы, распределенные информационные системы; имеются ли подключения ЛВС, в которой обрабатываются персональные данные к другим частям, сегментам ЛВС, где такие данные не обрабатываются).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В целях удобства использования и наглядности, рекомендуется составить как можно более подробные, поэтажные планы физического расположения средств вычислительной техники и связей между ними. Например, с использованием ПО Microsoft Office Visio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1500120" y="2214720"/>
            <a:ext cx="6357960" cy="435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12.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Структура (логическая) информационной системы (схема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(Конфигурация и логическая топология ИСПДн в целом и ее отдельных компонент, функциональные и технологические связи как внутри этих систем, так и с другими системами различного уровня и назначения, перечень информационных баз, задачи этих баз, их назначение, ресурсы сети, данные из </a:t>
            </a:r>
            <a:r>
              <a:rPr b="0" i="1" lang="en-US" sz="2600" spc="-1" strike="noStrike">
                <a:solidFill>
                  <a:srgbClr val="000000"/>
                </a:solidFill>
                <a:latin typeface="Georgia"/>
              </a:rPr>
              <a:t>Active Directory</a:t>
            </a: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 по группам безопасности, подразделениям и др.)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1"/>
          <a:srcRect l="12815" t="16668" r="13372" b="6513"/>
          <a:stretch/>
        </p:blipFill>
        <p:spPr>
          <a:xfrm>
            <a:off x="1571760" y="2214720"/>
            <a:ext cx="5854680" cy="4429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13. Наличие средств инженерно-технической защиты помещений, в которых обрабатываются персональные данные, а также данные, касающиеся пожарной и охранной защиты и сигнализации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се помещения МОУ СОШ №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, в которых обрабатываются персональные данные, имеют железные двери, решетки на окнах первых и последних этажей, во всех помещениях установлена пожарная и охранная сигнализация, имеющая выход на посты круглосуточной охраны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4. Наличие средств обеспечения гарантированного электропитания систем, в которых обрабатываются персональные данны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Электропитание всех серверов МОУ СОШ №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осуществляется через источники бесперебойного питания. Электропитание ПЭВМ осуществляется от промышленной сети без использования источников бесперебойного электропитан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444600" y="1974960"/>
            <a:ext cx="8053200" cy="13906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722160" y="3367080"/>
            <a:ext cx="7772400" cy="30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Исполнение приказа департамента образования мэрии г.о. Тольят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4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Исполнение Законодательства Р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428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Защита конституционных прав и свобод гражда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44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15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Наличие подключений информационной системы к сетям связи общего пользования (ССОП) и/или к Интернет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апрямую или через другие ЛВС, с которыми имеются физические соединения)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Автоматизированные информационные системы МОУ СОШ № 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АИС «1С:Зарплата и кадры» – не имеет физических соединений с ССОП и Интернетом, имеется прямой канал связи для передачи информации в налоговые органы;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6680" indent="-2426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- АСУ РСО – имеет физические соединения с ССОП и Интернетом через внутреннюю сеть учреждения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6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Режим обработки персональных данны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Режимы обработки ПДн в ИСПДн в целом и в отдельных компонентах: однопользовательские или/и многопользовательские; степень участия персонала в обработке ПДн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6" name="Содержимое 3" descr=""/>
          <p:cNvPicPr/>
          <p:nvPr/>
        </p:nvPicPr>
        <p:blipFill>
          <a:blip r:embed="rId1"/>
          <a:stretch/>
        </p:blipFill>
        <p:spPr>
          <a:xfrm>
            <a:off x="285840" y="2352600"/>
            <a:ext cx="8504280" cy="4365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17.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Режим разграничения прав доступа пользователей информационной системы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Режимы обработки ПДн в многопользовательских ИСПДн в целом и в отдельных компонентах: без разграничения прав доступа или с разграничением прав доступа; количество сотрудников всего в системе и за каждым рабочим местом, их пересечение; характер их взаимодействия между собой; права доступа к каждому ресурсу, содержащему персональные данные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18.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Местонахождение технических средств информационной системы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Варианты: все технические средства системы обработки персональных данных находятся в пределах Российской Федерации или все технические средства системы обработки персональных данных частично или целиком находятся за пределами Российской Федерации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Все технические средства МОУ СОШ №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находятся в пределах Российской Федераци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9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граммное обеспечени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перационные системы, программное обеспечение, которое обрабатывает и хранит персональные данные, офис, архиватор и другие общесистемные и прикладные программные средств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85840" y="2357280"/>
          <a:ext cx="8501040" cy="4213440"/>
        </p:xfrm>
        <a:graphic>
          <a:graphicData uri="http://schemas.openxmlformats.org/drawingml/2006/table">
            <a:tbl>
              <a:tblPr/>
              <a:tblGrid>
                <a:gridCol w="1654200"/>
                <a:gridCol w="2149200"/>
                <a:gridCol w="1776600"/>
                <a:gridCol w="1778040"/>
                <a:gridCol w="1143000"/>
              </a:tblGrid>
              <a:tr h="333360"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 </a:t>
                      </a: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начение программного продукт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ормация о программном продукт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изводи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рс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онн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dows X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sional Edition SP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52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работка, модификация текстовых и табличных документ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crosof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ffice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fessional Edition SP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просмотра файлов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ob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a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а архив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Роша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inR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1"/>
          <p:cNvSpPr/>
          <p:nvPr/>
        </p:nvSpPr>
        <p:spPr>
          <a:xfrm>
            <a:off x="1227240" y="-16200"/>
            <a:ext cx="668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 3.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ила разграничения доступа информационной системы (доменная структура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20.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Наличие сертифицированных (ФСТЭК, ФСБ) средств защиты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От несанкционированного доступа, антивирусы и др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В МОУ СОШ № 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не имеется сертифицированных средств защиты от НСД;   в АИС «1С:Зарплата и кадры» используется сертифицированный ФСТЭК «АП Континент»; на всех ПЭВМ установлены антивирусные средства 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DrWeb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 и Антивирус Касперского, имеющие сертификаты ФСТЭК и ФСБ России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1. Наличие администратора (службы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тветственного за ЛВС, оборудование, программное обеспечен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 МОУ СОШ №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имеется договор с технической службой ЦИТ, отвечающей за сопровождение ЛВС, серверов, программного обеспечения ПЭВМ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лассификация ИСПДн.</a:t>
            </a:r>
            <a:br>
              <a:rPr sz="3600"/>
            </a:b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Исходные данны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2. Наличие администратора базы данных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Ответственного за сопровождение баз данных, содержащих сведения о персональных дан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мер: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провождение баз данных МОУ СОШ №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XX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осуществляетс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АИС «1С:Зарплата и кадры» – по договору с сотрудниками ООО «1С-Консалтинг»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АСУ РСО – с сотрудниками ЦИ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8548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rebuchet MS"/>
              </a:rPr>
              <a:t>КЛАССИФИКАЦИЯ ИНФОРМАЦИОННЫХ СИСТЕМ ПЕРСОНАЛЬНЫХ ДАННЫХ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14200" y="3886200"/>
            <a:ext cx="842976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24456"/>
                </a:solidFill>
                <a:latin typeface="Georgia"/>
              </a:rPr>
              <a:t>Кокорин Сергей Викторович</a:t>
            </a:r>
            <a:br>
              <a:rPr sz="2400"/>
            </a:br>
            <a:r>
              <a:rPr b="0" i="1" lang="ru-RU" sz="2000" spc="-1" strike="noStrike">
                <a:solidFill>
                  <a:srgbClr val="424456"/>
                </a:solidFill>
                <a:latin typeface="Georgia"/>
              </a:rPr>
              <a:t>заместитель директора</a:t>
            </a:r>
            <a:br>
              <a:rPr sz="2000"/>
            </a:br>
            <a:r>
              <a:rPr b="0" i="1" lang="ru-RU" sz="2000" spc="-1" strike="noStrike">
                <a:solidFill>
                  <a:srgbClr val="424456"/>
                </a:solidFill>
                <a:latin typeface="Georgia"/>
              </a:rPr>
              <a:t>МОУДПОС Центр информационных технологий</a:t>
            </a:r>
            <a:br>
              <a:rPr sz="2400"/>
            </a:b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+7 (8482) 22-34-81</a:t>
            </a:r>
            <a:br>
              <a:rPr sz="2400"/>
            </a:br>
            <a:r>
              <a:rPr b="0" lang="en-US" sz="2400" spc="-1" strike="noStrike">
                <a:solidFill>
                  <a:srgbClr val="424456"/>
                </a:solidFill>
                <a:latin typeface="Georgia"/>
              </a:rPr>
              <a:t>svk@itc.tgl.ru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лассификация ИСПД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04" name="Picture 2" descr="Приказ_ФСТЭК_ФСБ_МИНСВЯЗЬ"/>
          <p:cNvPicPr/>
          <p:nvPr/>
        </p:nvPicPr>
        <p:blipFill>
          <a:blip r:embed="rId1"/>
          <a:srcRect l="0" t="0" r="0" b="21494"/>
          <a:stretch/>
        </p:blipFill>
        <p:spPr>
          <a:xfrm>
            <a:off x="1214280" y="2214720"/>
            <a:ext cx="6215400" cy="6491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лассификация ИСПД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249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Типовые информационные системы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системы, в которых требуется обеспечение только конфиденциальности персональных данных 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пециальные информационные системы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– системы, в которых вне зависимости от необходимости обеспечения конфиденциальности персональных данных требуется обеспечить хотя бы одну из характеристик безопасности персональных данных, отличную от конфиденциальности (защищенность от уничтожения, изменения, блокирования, а также иных несанкционированных действий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лассификация ИСПД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8" name="Схема 7" descr=""/>
          <p:cNvPicPr/>
          <p:nvPr/>
        </p:nvPicPr>
        <p:blipFill>
          <a:blip r:embed="rId1"/>
          <a:stretch/>
        </p:blipFill>
        <p:spPr>
          <a:xfrm>
            <a:off x="407880" y="2060640"/>
            <a:ext cx="8394840" cy="430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лассификация ИСПД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22496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иповые (конфиденциальность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714240" y="2857680"/>
          <a:ext cx="7632720" cy="2773080"/>
        </p:xfrm>
        <a:graphic>
          <a:graphicData uri="http://schemas.openxmlformats.org/drawingml/2006/table">
            <a:tbl>
              <a:tblPr/>
              <a:tblGrid>
                <a:gridCol w="2786040"/>
                <a:gridCol w="1390680"/>
                <a:gridCol w="1873440"/>
                <a:gridCol w="1582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нп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&lt;X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нп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нп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. 4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безличенные и (или) общедоступные ПД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. 3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Дн, позволяющие идентифицировать субъекта ПД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. 2.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т.3 + доп. информация исключая относящуюся к Кат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. 1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т. 3 + религия, здоровье, и т.п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312" name="Содержимое 2"/>
          <p:cNvSpPr/>
          <p:nvPr/>
        </p:nvSpPr>
        <p:spPr>
          <a:xfrm>
            <a:off x="714240" y="5572080"/>
            <a:ext cx="82296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пециальные (+целостность, +доступ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лассификация ИСПДн. Пример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4" name="Содержимое 3" descr=""/>
          <p:cNvPicPr/>
          <p:nvPr/>
        </p:nvPicPr>
        <p:blipFill>
          <a:blip r:embed="rId1"/>
          <a:stretch/>
        </p:blipFill>
        <p:spPr>
          <a:xfrm>
            <a:off x="487440" y="2279520"/>
            <a:ext cx="8259840" cy="1871640"/>
          </a:xfrm>
          <a:prstGeom prst="rect">
            <a:avLst/>
          </a:prstGeom>
          <a:ln w="0">
            <a:noFill/>
          </a:ln>
        </p:spPr>
      </p:pic>
      <p:pic>
        <p:nvPicPr>
          <p:cNvPr id="315" name="Содержимое 3" descr=""/>
          <p:cNvPicPr/>
          <p:nvPr/>
        </p:nvPicPr>
        <p:blipFill>
          <a:blip r:embed="rId2"/>
          <a:stretch/>
        </p:blipFill>
        <p:spPr>
          <a:xfrm>
            <a:off x="493560" y="4773600"/>
            <a:ext cx="8242560" cy="1461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лассификация ИСПДн. Пример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17" name="Содержимое 3" descr=""/>
          <p:cNvPicPr/>
          <p:nvPr/>
        </p:nvPicPr>
        <p:blipFill>
          <a:blip r:embed="rId1"/>
          <a:stretch/>
        </p:blipFill>
        <p:spPr>
          <a:xfrm>
            <a:off x="493560" y="2279520"/>
            <a:ext cx="8248680" cy="1871640"/>
          </a:xfrm>
          <a:prstGeom prst="rect">
            <a:avLst/>
          </a:prstGeom>
          <a:ln w="0">
            <a:noFill/>
          </a:ln>
        </p:spPr>
      </p:pic>
      <p:pic>
        <p:nvPicPr>
          <p:cNvPr id="318" name="Содержимое 3" descr=""/>
          <p:cNvPicPr/>
          <p:nvPr/>
        </p:nvPicPr>
        <p:blipFill>
          <a:blip r:embed="rId2"/>
          <a:stretch/>
        </p:blipFill>
        <p:spPr>
          <a:xfrm>
            <a:off x="566640" y="4638600"/>
            <a:ext cx="8248680" cy="1865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лассификация ИСПДн. Пример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20" name="Содержимое 3" descr=""/>
          <p:cNvPicPr/>
          <p:nvPr/>
        </p:nvPicPr>
        <p:blipFill>
          <a:blip r:embed="rId1"/>
          <a:stretch/>
        </p:blipFill>
        <p:spPr>
          <a:xfrm>
            <a:off x="493560" y="2279520"/>
            <a:ext cx="8248680" cy="1871640"/>
          </a:xfrm>
          <a:prstGeom prst="rect">
            <a:avLst/>
          </a:prstGeom>
          <a:ln w="0">
            <a:noFill/>
          </a:ln>
        </p:spPr>
      </p:pic>
      <p:pic>
        <p:nvPicPr>
          <p:cNvPr id="321" name="Содержимое 3" descr=""/>
          <p:cNvPicPr/>
          <p:nvPr/>
        </p:nvPicPr>
        <p:blipFill>
          <a:blip r:embed="rId2"/>
          <a:stretch/>
        </p:blipFill>
        <p:spPr>
          <a:xfrm>
            <a:off x="566640" y="4565520"/>
            <a:ext cx="8291520" cy="1871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лассификация ИСПДн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22496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Типовые (конфиденциальность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714240" y="2857680"/>
          <a:ext cx="7632720" cy="2773080"/>
        </p:xfrm>
        <a:graphic>
          <a:graphicData uri="http://schemas.openxmlformats.org/drawingml/2006/table">
            <a:tbl>
              <a:tblPr/>
              <a:tblGrid>
                <a:gridCol w="2786040"/>
                <a:gridCol w="1390680"/>
                <a:gridCol w="1873440"/>
                <a:gridCol w="1582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егория ПД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нп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&lt;X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нп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r>
                        <a:rPr b="0" lang="ru-RU" sz="1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нпд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100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. 4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Обезличенные и (или) общедоступные ПД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. 3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ПДн, позволяющие идентифицировать субъекта ПДн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. 2.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т.3 + доп. информация исключая относящуюся к Кат.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48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т. 1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Кат. 3 + религия, здоровье, и т.п. 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00"/>
                    </a:solidFill>
                  </a:tcPr>
                </a:tc>
              </a:tr>
            </a:tbl>
          </a:graphicData>
        </a:graphic>
      </p:graphicFrame>
      <p:sp>
        <p:nvSpPr>
          <p:cNvPr id="325" name="Содержимое 2"/>
          <p:cNvSpPr/>
          <p:nvPr/>
        </p:nvSpPr>
        <p:spPr>
          <a:xfrm>
            <a:off x="714240" y="5572080"/>
            <a:ext cx="82296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Специальные (+целостность, +доступ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кументация во О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2249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сходные данные на каждую ИСПДн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ложение 1 к приказу Департамента образования от 11.09.2009 № 325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кт классификации на каждую ИСПДн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ложение 2 к приказу Департамента образования от 11.09.2009 № 325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еестр ИСПДн </a:t>
            </a:r>
            <a:r>
              <a:rPr b="0" i="1" lang="en-US" sz="20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Приложение 2 к информационному письму Центра информационных технологий от 14.09.2009 № 140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кументация во ОУ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2249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ложение о персональных дан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несение изменений в договор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несение изменений в должностные инструкц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гласие субъектов ПДн на обработку ПД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гласие на передачу/получение ПДн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огласие на публикацию в Интернет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кумен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lnSpc>
                <a:spcPct val="130000"/>
              </a:lnSpc>
              <a:spcBef>
                <a:spcPts val="300"/>
              </a:spcBef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З от 27.07.2006 №152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З «О персональных данных»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«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Информационные системы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персональных данных … должны быть приведены в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соответствие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с требованиями настоящего Федерального закона не позднее </a:t>
            </a:r>
            <a:r>
              <a:rPr b="1" lang="ru-RU" sz="1700" spc="-1" strike="noStrike">
                <a:solidFill>
                  <a:srgbClr val="000000"/>
                </a:solidFill>
                <a:latin typeface="Georgia"/>
              </a:rPr>
              <a:t>1 января 2010 года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».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lnSpc>
                <a:spcPct val="130000"/>
              </a:lnSpc>
              <a:spcBef>
                <a:spcPts val="300"/>
              </a:spcBef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Аналогичные законы в других странах: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lnSpc>
                <a:spcPct val="130000"/>
              </a:lnSpc>
              <a:spcBef>
                <a:spcPts val="300"/>
              </a:spcBef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США «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The Privacy Act of 1974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17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lnSpc>
                <a:spcPct val="130000"/>
              </a:lnSpc>
              <a:spcBef>
                <a:spcPts val="300"/>
              </a:spcBef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Франция «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Data Protection Act of 1978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17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lnSpc>
                <a:spcPct val="130000"/>
              </a:lnSpc>
              <a:spcBef>
                <a:spcPts val="300"/>
              </a:spcBef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Канада «The Privacy Act», 1983</a:t>
            </a:r>
            <a:endParaRPr b="0" lang="en-US" sz="17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lnSpc>
                <a:spcPct val="130000"/>
              </a:lnSpc>
              <a:spcBef>
                <a:spcPts val="300"/>
              </a:spcBef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Швейцария «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The Federal Law on Data Protection of 1992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17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lnSpc>
                <a:spcPct val="130000"/>
              </a:lnSpc>
              <a:spcBef>
                <a:spcPts val="300"/>
              </a:spcBef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Евросоюз «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European Union Data Protection Directive of 1995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»</a:t>
            </a:r>
            <a:endParaRPr b="0" lang="en-US" sz="17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lnSpc>
                <a:spcPct val="130000"/>
              </a:lnSpc>
              <a:spcBef>
                <a:spcPts val="300"/>
              </a:spcBef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Чехия «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Act on Protection of Personal Data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</a:rPr>
              <a:t>», 2000</a:t>
            </a:r>
            <a:endParaRPr b="0" lang="en-US" sz="17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тветствен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249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ТРУДОВОЙ КОДЕКС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81. Расторжение трудового договора по инициативе работодателя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85. Понятие персональных данных работника. Обработка персональных данных работника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86. Общие требования при обработке персональных данных работника и гарантии их защиты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87. Хранение и использование персональных данных работников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88. Передача персональных данных работника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89. Права работников в целях обеспечения защиты персональных данных, хранящихся у работодателя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>
    <p:fad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тветствен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457200" y="2249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ТРУДОВОЙ КОДЕКС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90. Ответственность за нарушение норм, регулирующих обработку и защиту персональных данных работника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195. Привлечение к дисциплинарной ответственности руководителя организации, руководителя структурного подразделения организации, их заместителей по требованию представительного органа работников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237. Возмещение морального вреда, причиненного работнику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391. Рассмотрение индивидуальных трудовых споров в судах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>
    <p:fad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тветствен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2249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КОДЕКС РОССИЙСКОЙ ФЕДЕРАЦИИ ОБ АДМИНИСТРАТИВНЫХ ПРАВОНАРУШЕНИЯХ» Федеральный закон № 195-ФЗ от 30.12.2001 г. (с изменениями)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5.27. Нарушение законодательства о труде и об охране труда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5.39. Отказ в предоставлении гражданину информации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13.11. Нарушение установленного законом порядка сбора, хранения, использования или распространения информации о гражданах (персональных данных)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13.12. Нарушение правил защиты информации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13.13. Незаконная деятельность в области защиты информации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тветствен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7200" y="2249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КОДЕКС РОССИЙСКОЙ ФЕДЕРАЦИИ ОБ АДМИНИСТРАТИВНЫХ ПРАВОНАРУШЕНИЯХ» Федеральный закон № 195-ФЗ от 30.12.2001 г. (с изменениями)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 algn="just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38086"/>
                </a:solidFill>
                <a:latin typeface="Georgia"/>
              </a:rPr>
              <a:t>Статья 13.14. Разглашение информации с ограниченным доступом</a:t>
            </a:r>
            <a:endParaRPr b="0" lang="en-US" sz="1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13.19. Нарушение порядка представления статистической информации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38086"/>
                </a:solidFill>
                <a:latin typeface="Georgia"/>
              </a:rPr>
              <a:t>Статья 19.4. Неповиновение законному распоряжению должностного лица органа, осуществляющего государственный надзор (контроль)</a:t>
            </a:r>
            <a:endParaRPr b="0" lang="en-US" sz="1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38086"/>
                </a:solidFill>
                <a:latin typeface="Georgia"/>
              </a:rPr>
              <a:t>Статья 19.5. Невыполнение в срок законного предписания (постановления, представления, решения) органа (должностного лица), осуществляющего государственный надзор (контроль)</a:t>
            </a:r>
            <a:endParaRPr b="0" lang="en-US" sz="1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438086"/>
                </a:solidFill>
                <a:latin typeface="Georgia"/>
              </a:rPr>
              <a:t>Статья 19.6. Непринятие мер по устранению причин и условий, способствовавших совершению административного правонарушения</a:t>
            </a:r>
            <a:endParaRPr b="0" lang="en-US" sz="1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 algn="just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>
    <p:fad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тветствен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2249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КОДЕКС РОССИЙСКОЙ ФЕДЕРАЦИИ ОБ АДМИНИСТРАТИВНЫХ ПРАВОНАРУШЕНИЯХ» Федеральный закон № 195-ФЗ от 30.12.2001 г. (с изменениями)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19.7. Непредставление сведений (информации)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19.20. Осуществление деятельности, не связанной с извлечением прибыли, без специального разрешения (лицензии)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20.25. Неуплата административного штрафа либо самовольное оставление места отбывания административного ареста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32.2. Исполнение постановления о наложении административного штрафа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 algn="just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>
    <p:fad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тветствен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7200" y="2249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УГОЛОВНЫЙ КОДЕКС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Федеральный закон № 63-ФЗ от 13.06.1996 г. (с изменениями)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137. Нарушение неприкосновенности частной жизни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140. Отказ в предоставлении гражданину информации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155. Разглашение тайны усыновления (удочерения)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183. Незаконные получение и разглашение сведений, составляющих коммерческую, налоговую или банковскую тайну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272. Неправомерный доступ к компьютерной информации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273. Создание, использование и распространение вредоносных программ для ЭВМ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 algn="just">
              <a:lnSpc>
                <a:spcPct val="90000"/>
              </a:lnSpc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 algn="just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>
    <p:fad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Ответственность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2249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«УГОЛОВНЫЙ КОДЕКС РОССИЙСКОЙ ФЕДЕРАЦИИ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Федеральный закон № 63-ФЗ от 13.06.1996 г. (с изменениями)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274. Нарушение правил эксплуатации ЭВМ, системы ЭВМ или их сети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292. Служебный подлог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38086"/>
                </a:solidFill>
                <a:latin typeface="Georgia"/>
              </a:rPr>
              <a:t>Статья 293. Халатность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 algn="just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>
    <p:fad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екомендуе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rcRect l="0" t="11148" r="0" b="11148"/>
          <a:stretch/>
        </p:blipFill>
        <p:spPr>
          <a:xfrm>
            <a:off x="6500880" y="3714840"/>
            <a:ext cx="1714320" cy="500040"/>
          </a:xfrm>
          <a:prstGeom prst="rect">
            <a:avLst/>
          </a:prstGeom>
          <a:ln w="0">
            <a:noFill/>
          </a:ln>
        </p:spPr>
      </p:pic>
      <p:sp>
        <p:nvSpPr>
          <p:cNvPr id="346" name="TextBox 4"/>
          <p:cNvSpPr/>
          <p:nvPr/>
        </p:nvSpPr>
        <p:spPr>
          <a:xfrm>
            <a:off x="642960" y="2428920"/>
            <a:ext cx="771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сультант Плюс: Интернет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nsultant.ru/onlin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нет-версия системы ГАР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garant.ru/iv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2"/>
          <a:stretch/>
        </p:blipFill>
        <p:spPr>
          <a:xfrm>
            <a:off x="6429240" y="1785960"/>
            <a:ext cx="1571760" cy="1643040"/>
          </a:xfrm>
          <a:prstGeom prst="rect">
            <a:avLst/>
          </a:prstGeom>
          <a:ln w="0">
            <a:noFill/>
          </a:ln>
        </p:spPr>
      </p:pic>
      <p:pic>
        <p:nvPicPr>
          <p:cNvPr id="348" name="Пятно 2 6" descr=""/>
          <p:cNvPicPr/>
          <p:nvPr/>
        </p:nvPicPr>
        <p:blipFill>
          <a:blip r:embed="rId3"/>
          <a:stretch/>
        </p:blipFill>
        <p:spPr>
          <a:xfrm>
            <a:off x="4346640" y="1847880"/>
            <a:ext cx="3889440" cy="2243160"/>
          </a:xfrm>
          <a:prstGeom prst="rect">
            <a:avLst/>
          </a:prstGeom>
          <a:ln w="0">
            <a:noFill/>
          </a:ln>
        </p:spPr>
      </p:pic>
      <p:pic>
        <p:nvPicPr>
          <p:cNvPr id="349" name="Пятно 2 7" descr=""/>
          <p:cNvPicPr/>
          <p:nvPr/>
        </p:nvPicPr>
        <p:blipFill>
          <a:blip r:embed="rId4"/>
          <a:stretch/>
        </p:blipFill>
        <p:spPr>
          <a:xfrm>
            <a:off x="3986280" y="3919680"/>
            <a:ext cx="4603680" cy="259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3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Рекомендуем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2249640"/>
            <a:ext cx="8229600" cy="43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ерсональные данные: «Ручная» обработка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Московский бухгалтер», 2008, № 20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Работодатель на страже персональных данных работника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Отдел кадров коммерческой организации», 2009, №5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ерсональные данные работников. </a:t>
            </a:r>
            <a:r>
              <a:rPr b="0" i="1" lang="ru-RU" sz="2000" spc="-1" strike="noStrike">
                <a:solidFill>
                  <a:srgbClr val="000000"/>
                </a:solidFill>
                <a:latin typeface="Georgia"/>
              </a:rPr>
              <a:t>«Отдел кадров бюджетного учреждения», 2009, № 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 algn="just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 algn="just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p:transition>
    <p:fad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http://itc.tgl.ru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rcRect l="8522" t="24327" r="11220" b="11824"/>
          <a:stretch/>
        </p:blipFill>
        <p:spPr>
          <a:xfrm>
            <a:off x="571680" y="2071800"/>
            <a:ext cx="8072280" cy="45003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Докумен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 algn="just">
              <a:lnSpc>
                <a:spcPct val="150000"/>
              </a:lnSpc>
              <a:spcBef>
                <a:spcPts val="300"/>
              </a:spcBef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тановление правительства РФ №781; «Об утверждении положения об обеспечении безопасности персональных данных при их обработке в информационных системах персональных данных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150000"/>
              </a:lnSpc>
              <a:spcBef>
                <a:spcPts val="300"/>
              </a:spcBef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становление правительства РФ №687; «Об утверждении положения об особенностях обработки персональных данных, осуществляемой без использования средств автоматизации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39480" indent="-237600" algn="just">
              <a:lnSpc>
                <a:spcPct val="150000"/>
              </a:lnSpc>
              <a:spcBef>
                <a:spcPts val="300"/>
              </a:spcBef>
              <a:buClr>
                <a:srgbClr val="53548a"/>
              </a:buClr>
              <a:buFont typeface="Georg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риказ №55/86/20; «Порядок проведения классификации информационных систем персональных данных»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онтакты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пылова Галина Владимировн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+7 (8482) 22-19-40, 22-37-7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kgv@itc.tgl.r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окорин Сергей Викторович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+7 (8482) 22-34-81, 22-37-73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vk@itc.tgl.ru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ttp://itc.tgl.ru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здел: «Информационная безопасность»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Заголовок 1" descr=""/>
          <p:cNvPicPr/>
          <p:nvPr/>
        </p:nvPicPr>
        <p:blipFill>
          <a:blip r:embed="rId1"/>
          <a:stretch/>
        </p:blipFill>
        <p:spPr>
          <a:xfrm>
            <a:off x="633240" y="2992320"/>
            <a:ext cx="7785360" cy="1397160"/>
          </a:xfrm>
          <a:prstGeom prst="rect">
            <a:avLst/>
          </a:prstGeom>
          <a:ln w="0">
            <a:noFill/>
          </a:ln>
        </p:spPr>
      </p:pic>
      <p:pic>
        <p:nvPicPr>
          <p:cNvPr id="358" name="Прямоугольник 2" descr=""/>
          <p:cNvPicPr/>
          <p:nvPr/>
        </p:nvPicPr>
        <p:blipFill>
          <a:blip r:embed="rId2"/>
          <a:stretch/>
        </p:blipFill>
        <p:spPr>
          <a:xfrm>
            <a:off x="981000" y="-60480"/>
            <a:ext cx="6919920" cy="593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ерсональные данные. Опреде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ерсональные данны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любая информация, относящаяся к определенному или определяемому на основании такой информации физическому лицу (субъекту персональных данных), в том числе его фамилия, имя, отчество, год, месяц, дата и место рождения, адрес, семейное, социальное, имущественное положение, образование, профессия, доходы, другая информация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ерсональные данные. Опреде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ператор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государственный орган, муниципальный орган, юридическое или физическое лицо, организующие и (или) осуществляющие обработку персональных данных, а также определяющие цели и содержание обработки персональных дан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Персональные данные. Определения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бработка персональных данных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- действия (операции) с персональными данными, включая сбор, систематизацию, накопление, хранение, уточнение (обновление, изменение), использование, распространение (в том числе передачу), обезличивание, блокирование, уничтожение персональных данных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3:23:51Z</dcterms:created>
  <dc:creator>kokorin</dc:creator>
  <dc:description/>
  <dc:language>en-US</dc:language>
  <cp:lastModifiedBy>kokorin</cp:lastModifiedBy>
  <dcterms:modified xsi:type="dcterms:W3CDTF">2009-09-21T08:38:19Z</dcterms:modified>
  <cp:revision>161</cp:revision>
  <dc:subject/>
  <dc:title>Информационная безопасность в образовательном учреждении</dc:title>
</cp:coreProperties>
</file>