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92160" y="767880"/>
            <a:ext cx="5114880" cy="3837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9000" rIns="9900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44CDC-0957-4ED0-80B1-6BA8BAECA99D}" type="slidenum">
              <a:rPr b="0" lang="ru-RU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Номер слайда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B8F4A-9617-47F5-A631-803BA7B330EF}" type="slidenum">
              <a:rPr b="0" lang="ru-RU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Номер слайда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7637D-EF92-446B-BE25-9F2A24BC9F79}" type="slidenum">
              <a:rPr b="0" lang="ru-RU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Номер слайда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FC568-3C1C-4A82-BD4B-97BFAFE3EDC1}" type="slidenum">
              <a:rPr b="0" lang="ru-RU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Номер слайда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F54E7-054A-4906-A535-8ED29DA46B67}" type="slidenum">
              <a:rPr b="0" lang="ru-RU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Номер слайда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F53AB-E797-4060-B3A8-C50F8C5BEDC3}" type="slidenum">
              <a:rPr b="0" lang="ru-RU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Номер слайда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C0113-6EC5-483B-9D67-9E48A8EDE483}" type="slidenum">
              <a:rPr b="0" lang="ru-RU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Номер слайда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7FFBE-8B74-428A-A9AD-42AD3719FE20}" type="slidenum">
              <a:rPr b="0" lang="ru-RU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Номер слайда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B4CEE-7383-4273-8BBE-308B773243AF}" type="slidenum">
              <a:rPr b="0" lang="ru-RU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Номер слайда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EA5B2-05FF-43EA-B199-6F8FAB9EEB7A}" type="slidenum">
              <a:rPr b="0" lang="ru-RU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Номер слайда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472E7-0F2A-4E90-B9D1-D6F138EB1078}" type="slidenum">
              <a:rPr b="0" lang="ru-RU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Номер слайда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E88E1-A28E-49FD-A9E8-0A4B7D623949}" type="slidenum">
              <a:rPr b="0" lang="ru-RU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Номер слайда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69BF5-B51D-412D-B230-D49DCF6F4369}" type="slidenum">
              <a:rPr b="0" lang="ru-RU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Номер слайда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5382E-C56D-4F54-95CB-B94BF0EDD8A3}" type="slidenum">
              <a:rPr b="0" lang="ru-RU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Номер слайда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3D8AE-166C-4DA2-AF2F-B8B12E2A1A41}" type="slidenum">
              <a:rPr b="0" lang="ru-RU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Номер слайда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D312A-6A26-4AC6-848C-C94BF01F8E0F}" type="slidenum">
              <a:rPr b="0" lang="ru-RU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Номер слайда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B37CC-566A-412F-93A7-5FD2074263D4}" type="slidenum">
              <a:rPr b="0" lang="ru-RU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Номер слайда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648A3-59CB-4F01-ACDA-85D9F0761D2D}" type="slidenum">
              <a:rPr b="0" lang="ru-RU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Номер слайда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E8559-3836-40A4-9E2C-75DA771C73BB}" type="slidenum">
              <a:rPr b="0" lang="ru-RU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9504D-EF76-46C6-AFCE-F1B9CC330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E33C5-BE6C-4AF8-87DC-2C25E84CA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7967C-E83C-4B3F-9333-A088AE790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AE3AB-EAA3-45B7-B869-9BDDE113E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4394F-81C6-434F-A4DF-4E7D3B408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12707-8544-4280-A27C-83750C6EE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861BD-C83E-4C8B-9A16-69ABE7211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A8659-07F7-4A88-935E-AF6F1262A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01CA9-737E-42D8-B1AF-7783EA47A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2183C-5A3A-41C0-94E5-8E445F45F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47FB8-66E7-47D0-860E-2F6027A32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5D460-B34A-4CE3-8AEC-BED2A351A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2d050"/>
            </a:gs>
            <a:gs pos="100000">
              <a:srgbClr val="96ab94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EFEFA-2739-4F26-8997-6C05A4CD1A7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mailto:support@rcu.samara.ru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rcu.samregion.ru/" TargetMode="External"/><Relationship Id="rId2" Type="http://schemas.openxmlformats.org/officeDocument/2006/relationships/hyperlink" Target="http://www.rcu.samregion.ru/" TargetMode="External"/><Relationship Id="rId3" Type="http://schemas.openxmlformats.org/officeDocument/2006/relationships/hyperlink" Target="mailto:support@rcu.samara.ru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rcu.samregion.ru/" TargetMode="Externa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42960" y="1928520"/>
            <a:ext cx="7772400" cy="194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Безопасность персональных данных в учреждениях образования г.о. Тольятт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57200" y="4357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Кокорин Сергей Викторович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заместитель директора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(8482) 22-34-81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vk@itc.tgl.ru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5" descr="C:\Users\kokorin\Desktop\Лого_ЦИТ_без текста.jpg"/>
          <p:cNvPicPr/>
          <p:nvPr/>
        </p:nvPicPr>
        <p:blipFill>
          <a:blip r:embed="rId1"/>
          <a:stretch/>
        </p:blipFill>
        <p:spPr>
          <a:xfrm>
            <a:off x="3929040" y="142920"/>
            <a:ext cx="1071720" cy="1060560"/>
          </a:xfrm>
          <a:prstGeom prst="rect">
            <a:avLst/>
          </a:prstGeom>
          <a:ln w="0">
            <a:noFill/>
          </a:ln>
        </p:spPr>
      </p:pic>
      <p:sp>
        <p:nvSpPr>
          <p:cNvPr id="51" name="TextBox 8"/>
          <p:cNvSpPr/>
          <p:nvPr/>
        </p:nvSpPr>
        <p:spPr>
          <a:xfrm>
            <a:off x="571680" y="1214280"/>
            <a:ext cx="807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ЦЕНТР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ИНФОРМАЦИОННЫХ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ТЕХНОЛОГИ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5"/>
          <p:cNvSpPr/>
          <p:nvPr/>
        </p:nvSpPr>
        <p:spPr>
          <a:xfrm>
            <a:off x="0" y="6215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ольятт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70072-F8F8-414A-9F01-A170EEA4CC5C}" type="datetime3">
              <a:rPr b="0" lang="ru-RU" sz="1800" spc="-1" strike="noStrike">
                <a:solidFill>
                  <a:srgbClr val="000000"/>
                </a:solidFill>
                <a:latin typeface="Calibri"/>
              </a:rPr>
              <a:t>31 июля, 2026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Наименование ИСПД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91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звание информационной системы БЕЗ КАВЫЧЕК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сле названия в скобках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ля систем использующих средства автоматизации: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АВ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ля систем не использующих средства автоматизации: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АВ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Например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Личные дела (НАВТ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1С:Зарплата и кадры (АВТ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xtBox 3"/>
          <p:cNvSpPr/>
          <p:nvPr/>
        </p:nvSpPr>
        <p:spPr>
          <a:xfrm>
            <a:off x="4572000" y="5589720"/>
            <a:ext cx="42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Источник: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Акт классификаци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труктура ИСПД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91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РМ – Автоматизированное рабочее мест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ЛВС – Локальная вычислительная сет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ВС – Распределенная вычислительная систем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Если система без использования средств автоматизации указываем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АРМ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TextBox 3"/>
          <p:cNvSpPr/>
          <p:nvPr/>
        </p:nvSpPr>
        <p:spPr>
          <a:xfrm>
            <a:off x="4572000" y="5589720"/>
            <a:ext cx="424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Источники: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Акт классификации, п.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одключение ИСПДн к открытым сетям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91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Акт классификации, п. 3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Исходные данные, п. 15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Режим обработ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91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Акт классификации, п. 5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Исходные данные, п. 16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Наличие разграничения доступа пользователей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91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Акт классификации, п. 6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Исходные данные, п.17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Нахождение ИСПДн в пределах Росси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91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Д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атегория обрабатываемых ПД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91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Акт классификации, п.3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ъем обрабатываемых данных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9152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500 (до 1000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5000 (от 1000 до 100000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50000 (более 100000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extBox 3"/>
          <p:cNvSpPr/>
          <p:nvPr/>
        </p:nvSpPr>
        <p:spPr>
          <a:xfrm>
            <a:off x="4572000" y="5589720"/>
            <a:ext cx="4248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Источники: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Акт классификации, п.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сх. Данные, п.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Заполненная форм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Рисунок 2" descr=""/>
          <p:cNvPicPr/>
          <p:nvPr/>
        </p:nvPicPr>
        <p:blipFill>
          <a:blip r:embed="rId1"/>
          <a:srcRect l="0" t="24603" r="13597" b="30655"/>
          <a:stretch/>
        </p:blipFill>
        <p:spPr>
          <a:xfrm>
            <a:off x="90360" y="2060640"/>
            <a:ext cx="8731440" cy="3168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Заполненная форм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Рисунок 2" descr=""/>
          <p:cNvPicPr/>
          <p:nvPr/>
        </p:nvPicPr>
        <p:blipFill>
          <a:blip r:embed="rId1"/>
          <a:srcRect l="0" t="27289" r="0" b="11206"/>
          <a:stretch/>
        </p:blipFill>
        <p:spPr>
          <a:xfrm>
            <a:off x="90360" y="1989000"/>
            <a:ext cx="8963280" cy="38642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22160" y="2457360"/>
            <a:ext cx="7772400" cy="194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Электронный журнал учета ИСПД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5" descr="C:\Users\kokorin\Desktop\Лого_ЦИТ_без текста.jpg"/>
          <p:cNvPicPr/>
          <p:nvPr/>
        </p:nvPicPr>
        <p:blipFill>
          <a:blip r:embed="rId1"/>
          <a:stretch/>
        </p:blipFill>
        <p:spPr>
          <a:xfrm>
            <a:off x="3929040" y="142920"/>
            <a:ext cx="1071720" cy="1060560"/>
          </a:xfrm>
          <a:prstGeom prst="rect">
            <a:avLst/>
          </a:prstGeom>
          <a:ln w="0">
            <a:noFill/>
          </a:ln>
        </p:spPr>
      </p:pic>
      <p:sp>
        <p:nvSpPr>
          <p:cNvPr id="55" name="TextBox 8"/>
          <p:cNvSpPr/>
          <p:nvPr/>
        </p:nvSpPr>
        <p:spPr>
          <a:xfrm>
            <a:off x="571680" y="1214280"/>
            <a:ext cx="807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ЦЕНТР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ИНФОРМАЦИОННЫХ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ТЕХНОЛОГИ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Box 5"/>
          <p:cNvSpPr/>
          <p:nvPr/>
        </p:nvSpPr>
        <p:spPr>
          <a:xfrm>
            <a:off x="0" y="6215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ольятт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3064F-4232-4271-B776-D8BCF667E097}" type="datetime3">
              <a:rPr b="0" lang="ru-RU" sz="1800" spc="-1" strike="noStrike">
                <a:solidFill>
                  <a:srgbClr val="000000"/>
                </a:solidFill>
                <a:latin typeface="Calibri"/>
              </a:rPr>
              <a:t>31 июля, 2026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несение изменени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исьмо по адресу: 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support@rcu.samara.r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! С адреса Ответственного от ОУ, зарегистрированного в баз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ема письма: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Корректировка: 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Наименование О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5" descr="C:\Users\kokorin\Desktop\Лого_ЦИТ_без текста.jpg"/>
          <p:cNvPicPr/>
          <p:nvPr/>
        </p:nvPicPr>
        <p:blipFill>
          <a:blip r:embed="rId2"/>
          <a:stretch/>
        </p:blipFill>
        <p:spPr>
          <a:xfrm>
            <a:off x="142920" y="142920"/>
            <a:ext cx="504720" cy="500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несение изменени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Вид вносимых изменений (модификация, удаление)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 algn="just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Наименование информационной системы (организации), или набор значений, однозначно идентифицирующий систему (организацию), в которую вносятся изменения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 algn="just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Изменяемое значение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 algn="just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Замещающее значение (если выполняется модификация)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 algn="just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Причину внесения изменений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5" descr="C:\Users\kokorin\Desktop\Лого_ЦИТ_без текста.jpg"/>
          <p:cNvPicPr/>
          <p:nvPr/>
        </p:nvPicPr>
        <p:blipFill>
          <a:blip r:embed="rId1"/>
          <a:stretch/>
        </p:blipFill>
        <p:spPr>
          <a:xfrm>
            <a:off x="142920" y="142920"/>
            <a:ext cx="504720" cy="500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оддерж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Вид вносимых изменений (модификация, удаление)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 algn="just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Наименование информационной системы (организации), или набор значений, однозначно идентифицирующий систему (организацию), в которую вносятся изменения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 algn="just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Изменяемое значение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 algn="just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Замещающее значение (если выполняется модификация)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 algn="just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Причину внесения изменений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Picture 5" descr="C:\Users\kokorin\Desktop\Лого_ЦИТ_без текста.jpg"/>
          <p:cNvPicPr/>
          <p:nvPr/>
        </p:nvPicPr>
        <p:blipFill>
          <a:blip r:embed="rId1"/>
          <a:stretch/>
        </p:blipFill>
        <p:spPr>
          <a:xfrm>
            <a:off x="142920" y="142920"/>
            <a:ext cx="504720" cy="500040"/>
          </a:xfrm>
          <a:prstGeom prst="rect">
            <a:avLst/>
          </a:prstGeom>
          <a:ln w="0">
            <a:noFill/>
          </a:ln>
        </p:spPr>
      </p:pic>
      <p:pic>
        <p:nvPicPr>
          <p:cNvPr id="114" name="Рисунок 2" descr=""/>
          <p:cNvPicPr/>
          <p:nvPr/>
        </p:nvPicPr>
        <p:blipFill>
          <a:blip r:embed="rId2"/>
          <a:srcRect l="5172" t="25052" r="7838" b="0"/>
          <a:stretch/>
        </p:blipFill>
        <p:spPr>
          <a:xfrm>
            <a:off x="196920" y="1341360"/>
            <a:ext cx="8750160" cy="5281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онтакт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ольятти. ЦИТ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65000" indent="-255240" algn="just"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окорин Сергей Викторович, 22-34-81, 22-37-7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65000" indent="-255240" algn="just"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Хромов Григорий Игоревич, 22-36-92, 32-73-4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 algn="just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амара. РЦУП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65000" indent="-255240" algn="just"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еменов Павел Иванови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65000" indent="-255240" algn="just"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Ярыш Дмитрий Александрови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65000" indent="-255240" algn="just"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(846) 278-09-1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65000" indent="-255240" algn="just"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5" descr="C:\Users\kokorin\Desktop\Лого_ЦИТ_без текста.jpg"/>
          <p:cNvPicPr/>
          <p:nvPr/>
        </p:nvPicPr>
        <p:blipFill>
          <a:blip r:embed="rId1"/>
          <a:stretch/>
        </p:blipFill>
        <p:spPr>
          <a:xfrm>
            <a:off x="142920" y="142920"/>
            <a:ext cx="504720" cy="500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8" name=""/>
          <p:cNvGraphicFramePr/>
          <p:nvPr/>
        </p:nvGraphicFramePr>
        <p:xfrm>
          <a:off x="-1044720" y="6021360"/>
          <a:ext cx="8229600" cy="36504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5" descr="C:\Users\kokorin\Desktop\Лого_ЦИТ_без текста.jpg"/>
          <p:cNvPicPr/>
          <p:nvPr/>
        </p:nvPicPr>
        <p:blipFill>
          <a:blip r:embed="rId1"/>
          <a:stretch/>
        </p:blipFill>
        <p:spPr>
          <a:xfrm>
            <a:off x="142920" y="142920"/>
            <a:ext cx="504720" cy="500040"/>
          </a:xfrm>
          <a:prstGeom prst="rect">
            <a:avLst/>
          </a:prstGeom>
          <a:ln w="0">
            <a:noFill/>
          </a:ln>
        </p:spPr>
      </p:pic>
      <p:pic>
        <p:nvPicPr>
          <p:cNvPr id="120" name="Прямоугольник 5" descr=""/>
          <p:cNvPicPr/>
          <p:nvPr/>
        </p:nvPicPr>
        <p:blipFill>
          <a:blip r:embed="rId2"/>
          <a:stretch/>
        </p:blipFill>
        <p:spPr>
          <a:xfrm>
            <a:off x="1139760" y="-60480"/>
            <a:ext cx="7491600" cy="8217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5" descr="C:\Users\kokorin\Desktop\Лого_ЦИТ_без текста.jpg"/>
          <p:cNvPicPr/>
          <p:nvPr/>
        </p:nvPicPr>
        <p:blipFill>
          <a:blip r:embed="rId1"/>
          <a:stretch/>
        </p:blipFill>
        <p:spPr>
          <a:xfrm>
            <a:off x="142920" y="142920"/>
            <a:ext cx="504720" cy="500040"/>
          </a:xfrm>
          <a:prstGeom prst="rect">
            <a:avLst/>
          </a:prstGeom>
          <a:ln w="0">
            <a:noFill/>
          </a:ln>
        </p:spPr>
      </p:pic>
      <p:sp>
        <p:nvSpPr>
          <p:cNvPr id="122" name="Заголовок 1"/>
          <p:cNvSpPr/>
          <p:nvPr/>
        </p:nvSpPr>
        <p:spPr>
          <a:xfrm>
            <a:off x="642960" y="3000240"/>
            <a:ext cx="7772400" cy="13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42960" y="1000080"/>
            <a:ext cx="7772400" cy="328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Security is a process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not a product</a:t>
            </a:r>
            <a:br>
              <a:rPr sz="4800"/>
            </a:br>
            <a:br>
              <a:rPr sz="4800"/>
            </a:b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Безопасность это процесс,</a:t>
            </a:r>
            <a:br>
              <a:rPr sz="4800"/>
            </a:b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а не результат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5" descr="C:\Users\kokorin\Desktop\Лого_ЦИТ_без текста.jpg"/>
          <p:cNvPicPr/>
          <p:nvPr/>
        </p:nvPicPr>
        <p:blipFill>
          <a:blip r:embed="rId1"/>
          <a:stretch/>
        </p:blipFill>
        <p:spPr>
          <a:xfrm>
            <a:off x="142920" y="142920"/>
            <a:ext cx="504720" cy="500040"/>
          </a:xfrm>
          <a:prstGeom prst="rect">
            <a:avLst/>
          </a:prstGeom>
          <a:ln w="0">
            <a:noFill/>
          </a:ln>
        </p:spPr>
      </p:pic>
      <p:sp>
        <p:nvSpPr>
          <p:cNvPr id="59" name="TextBox 7"/>
          <p:cNvSpPr/>
          <p:nvPr/>
        </p:nvSpPr>
        <p:spPr>
          <a:xfrm>
            <a:off x="3857760" y="4929120"/>
            <a:ext cx="471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Bruce Schnei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Регистрационная анке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Рисунок 4" descr=""/>
          <p:cNvPicPr/>
          <p:nvPr/>
        </p:nvPicPr>
        <p:blipFill>
          <a:blip r:embed="rId1"/>
          <a:srcRect l="1940" t="24828" r="21251" b="6282"/>
          <a:stretch/>
        </p:blipFill>
        <p:spPr>
          <a:xfrm>
            <a:off x="117360" y="1484280"/>
            <a:ext cx="8909280" cy="4619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РЦУП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егиональный центр управления государственными и муниципальными информационными системами и ресурсами Самарской облас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u.samregion.ru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(846) 278-09-99, 278-09-1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support@rcu.samara.r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5" descr="C:\Users\kokorin\Desktop\Лого_ЦИТ_без текста.jpg"/>
          <p:cNvPicPr/>
          <p:nvPr/>
        </p:nvPicPr>
        <p:blipFill>
          <a:blip r:embed="rId4"/>
          <a:stretch/>
        </p:blipFill>
        <p:spPr>
          <a:xfrm>
            <a:off x="142920" y="142920"/>
            <a:ext cx="504720" cy="500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тартовая страниц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u.samregion.ru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5" descr="C:\Users\kokorin\Desktop\Лого_ЦИТ_без текста.jpg"/>
          <p:cNvPicPr/>
          <p:nvPr/>
        </p:nvPicPr>
        <p:blipFill>
          <a:blip r:embed="rId2"/>
          <a:stretch/>
        </p:blipFill>
        <p:spPr>
          <a:xfrm>
            <a:off x="142920" y="142920"/>
            <a:ext cx="504720" cy="500040"/>
          </a:xfrm>
          <a:prstGeom prst="rect">
            <a:avLst/>
          </a:prstGeom>
          <a:ln w="0">
            <a:noFill/>
          </a:ln>
        </p:spPr>
      </p:pic>
      <p:pic>
        <p:nvPicPr>
          <p:cNvPr id="68" name="Рисунок 2" descr=""/>
          <p:cNvPicPr/>
          <p:nvPr/>
        </p:nvPicPr>
        <p:blipFill>
          <a:blip r:embed="rId3"/>
          <a:srcRect l="0" t="24383" r="0" b="0"/>
          <a:stretch/>
        </p:blipFill>
        <p:spPr>
          <a:xfrm>
            <a:off x="125280" y="1989000"/>
            <a:ext cx="8893440" cy="4711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Авторизац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5" descr="C:\Users\kokorin\Desktop\Лого_ЦИТ_без текста.jpg"/>
          <p:cNvPicPr/>
          <p:nvPr/>
        </p:nvPicPr>
        <p:blipFill>
          <a:blip r:embed="rId1"/>
          <a:stretch/>
        </p:blipFill>
        <p:spPr>
          <a:xfrm>
            <a:off x="142920" y="142920"/>
            <a:ext cx="504720" cy="500040"/>
          </a:xfrm>
          <a:prstGeom prst="rect">
            <a:avLst/>
          </a:prstGeom>
          <a:ln w="0">
            <a:noFill/>
          </a:ln>
        </p:spPr>
      </p:pic>
      <p:pic>
        <p:nvPicPr>
          <p:cNvPr id="72" name="Рисунок 2" descr=""/>
          <p:cNvPicPr/>
          <p:nvPr/>
        </p:nvPicPr>
        <p:blipFill>
          <a:blip r:embed="rId2"/>
          <a:srcRect l="0" t="24603" r="0" b="0"/>
          <a:stretch/>
        </p:blipFill>
        <p:spPr>
          <a:xfrm>
            <a:off x="125280" y="1971720"/>
            <a:ext cx="8893440" cy="4697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сновная страниц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5" descr="C:\Users\kokorin\Desktop\Лого_ЦИТ_без текста.jpg"/>
          <p:cNvPicPr/>
          <p:nvPr/>
        </p:nvPicPr>
        <p:blipFill>
          <a:blip r:embed="rId1"/>
          <a:stretch/>
        </p:blipFill>
        <p:spPr>
          <a:xfrm>
            <a:off x="142920" y="142920"/>
            <a:ext cx="504720" cy="500040"/>
          </a:xfrm>
          <a:prstGeom prst="rect">
            <a:avLst/>
          </a:prstGeom>
          <a:ln w="0">
            <a:noFill/>
          </a:ln>
        </p:spPr>
      </p:pic>
      <p:pic>
        <p:nvPicPr>
          <p:cNvPr id="76" name="Рисунок 2" descr=""/>
          <p:cNvPicPr/>
          <p:nvPr/>
        </p:nvPicPr>
        <p:blipFill>
          <a:blip r:embed="rId2"/>
          <a:srcRect l="0" t="24603" r="6806" b="0"/>
          <a:stretch/>
        </p:blipFill>
        <p:spPr>
          <a:xfrm>
            <a:off x="262080" y="1989000"/>
            <a:ext cx="8619840" cy="4032360"/>
          </a:xfrm>
          <a:prstGeom prst="rect">
            <a:avLst/>
          </a:prstGeom>
          <a:ln w="0">
            <a:noFill/>
          </a:ln>
        </p:spPr>
      </p:pic>
      <p:sp>
        <p:nvSpPr>
          <p:cNvPr id="77" name="Прямоугольник 5"/>
          <p:cNvSpPr/>
          <p:nvPr/>
        </p:nvSpPr>
        <p:spPr>
          <a:xfrm>
            <a:off x="4067280" y="2924280"/>
            <a:ext cx="1152360" cy="3603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Добавление ИСПД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5" descr="C:\Users\kokorin\Desktop\Лого_ЦИТ_без текста.jpg"/>
          <p:cNvPicPr/>
          <p:nvPr/>
        </p:nvPicPr>
        <p:blipFill>
          <a:blip r:embed="rId1"/>
          <a:stretch/>
        </p:blipFill>
        <p:spPr>
          <a:xfrm>
            <a:off x="142920" y="142920"/>
            <a:ext cx="504720" cy="500040"/>
          </a:xfrm>
          <a:prstGeom prst="rect">
            <a:avLst/>
          </a:prstGeom>
          <a:ln w="0">
            <a:noFill/>
          </a:ln>
        </p:spPr>
      </p:pic>
      <p:pic>
        <p:nvPicPr>
          <p:cNvPr id="81" name="Рисунок 2" descr=""/>
          <p:cNvPicPr/>
          <p:nvPr/>
        </p:nvPicPr>
        <p:blipFill>
          <a:blip r:embed="rId2"/>
          <a:srcRect l="0" t="26845" r="12069" b="0"/>
          <a:stretch/>
        </p:blipFill>
        <p:spPr>
          <a:xfrm>
            <a:off x="149400" y="1413000"/>
            <a:ext cx="8845200" cy="5155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2T07:55:16Z</dcterms:created>
  <dc:creator>kokorin</dc:creator>
  <dc:description/>
  <dc:language>en-US</dc:language>
  <cp:lastModifiedBy>Kokorin</cp:lastModifiedBy>
  <cp:lastPrinted>2010-02-03T21:03:12Z</cp:lastPrinted>
  <dcterms:modified xsi:type="dcterms:W3CDTF">2010-02-03T21:03:27Z</dcterms:modified>
  <cp:revision>223</cp:revision>
  <dc:subject/>
  <dc:title>Информационная безопасность в системе образования г.о. Тольятти</dc:title>
</cp:coreProperties>
</file>