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9726-25F4-4748-B5C3-478EF086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60480" y="1720440"/>
            <a:ext cx="77724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60480" y="4167000"/>
            <a:ext cx="77724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EED7-0AF0-4775-B846-05A01551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60480" y="1720440"/>
            <a:ext cx="37926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3160" y="1720440"/>
            <a:ext cx="37926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60480" y="4167000"/>
            <a:ext cx="37926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3160" y="4167000"/>
            <a:ext cx="37926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D0A9-E2A5-496C-B13F-0B49C1C0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60480" y="1720440"/>
            <a:ext cx="250236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480" y="1720440"/>
            <a:ext cx="250236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6120" y="1720440"/>
            <a:ext cx="250236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60480" y="4167000"/>
            <a:ext cx="250236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480" y="4167000"/>
            <a:ext cx="250236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6120" y="4167000"/>
            <a:ext cx="250236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FEDE-6BC2-4F76-8833-203EDB2E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D638-C346-4B98-966C-12F8A5C6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60480" y="1720440"/>
            <a:ext cx="777240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A384-EB47-4434-85E8-6722525B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60480" y="1720440"/>
            <a:ext cx="77724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7F0E-CEED-4E27-A065-2E8571F1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60480" y="1720440"/>
            <a:ext cx="37926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3160" y="1720440"/>
            <a:ext cx="37926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A4E9-3FDC-4F7E-BFE1-8BD0DF99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36A3-87E7-4C1F-908D-9ACD47BC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2991-A241-4AEF-B763-C6D3FF68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60480" y="1720440"/>
            <a:ext cx="37926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3160" y="1720440"/>
            <a:ext cx="37926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60480" y="4167000"/>
            <a:ext cx="37926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6ECE-477A-40B9-843B-B4BBC596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60480" y="1720440"/>
            <a:ext cx="777240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242A-5F24-4C2E-99BC-A43B3295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60480" y="1720440"/>
            <a:ext cx="37926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3160" y="1720440"/>
            <a:ext cx="37926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3160" y="4167000"/>
            <a:ext cx="37926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B4C7-3D99-46CF-885D-EB43D5F4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60480" y="1720440"/>
            <a:ext cx="37926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3160" y="1720440"/>
            <a:ext cx="37926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60480" y="4167000"/>
            <a:ext cx="77724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D770-FAEA-4AB6-9F98-541F2AAC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60480" y="1720440"/>
            <a:ext cx="77724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60480" y="4167000"/>
            <a:ext cx="77724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F054-DBB5-4F6C-B034-8D54545C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60480" y="1720440"/>
            <a:ext cx="37926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3160" y="1720440"/>
            <a:ext cx="37926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60480" y="4167000"/>
            <a:ext cx="37926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3160" y="4167000"/>
            <a:ext cx="37926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533A-A501-47F0-B84C-9A2EEA87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60480" y="1720440"/>
            <a:ext cx="250236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8480" y="1720440"/>
            <a:ext cx="250236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6120" y="1720440"/>
            <a:ext cx="250236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60480" y="4167000"/>
            <a:ext cx="250236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8480" y="4167000"/>
            <a:ext cx="250236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6120" y="4167000"/>
            <a:ext cx="250236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FC1E-1EFD-468D-8999-EAF16FE9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60480" y="1720440"/>
            <a:ext cx="77724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6B14-B8F9-4299-ACD5-2C5EF019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60480" y="1720440"/>
            <a:ext cx="37926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3160" y="1720440"/>
            <a:ext cx="37926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B579-7EFB-4A67-9FAA-6EE8BF41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76FD-E661-483D-BCF0-B66A77A7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7E12-0583-4A39-B6F3-61EBA7BF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60480" y="1720440"/>
            <a:ext cx="37926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3160" y="1720440"/>
            <a:ext cx="37926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60480" y="4167000"/>
            <a:ext cx="37926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58B9-4B35-4B62-9A8A-C582FC7D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60480" y="1720440"/>
            <a:ext cx="37926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3160" y="1720440"/>
            <a:ext cx="37926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3160" y="4167000"/>
            <a:ext cx="37926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3A7D-59AE-415E-AD56-D2A2156D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60480" y="1720440"/>
            <a:ext cx="37926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3160" y="1720440"/>
            <a:ext cx="37926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60480" y="4167000"/>
            <a:ext cx="77724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51FD-C6C9-4121-961C-0C41ACE6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99cc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60480" y="1720440"/>
            <a:ext cx="77724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10320"/>
            <a:ext cx="116676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05000" y="6610320"/>
            <a:ext cx="720720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8640" y="6610320"/>
            <a:ext cx="49536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1B4A-87F9-435F-BAB6-21FE1E772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2684520"/>
            <a:ext cx="858024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10320"/>
            <a:ext cx="116676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1305000" y="6610320"/>
            <a:ext cx="720720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648640" y="6610320"/>
            <a:ext cx="49536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C6E7-8F0B-4254-BDF5-A0A2671A0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25480" indent="8892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36600" indent="1350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49520" indent="1792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49520" indent="1792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49520" indent="1792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t-school.ru/" TargetMode="External"/><Relationship Id="rId3" Type="http://schemas.openxmlformats.org/officeDocument/2006/relationships/hyperlink" Target="http://itc.tgl.ru/" TargetMode="External"/><Relationship Id="rId4" Type="http://schemas.openxmlformats.org/officeDocument/2006/relationships/hyperlink" Target="http://itc.tgl.ru/" TargetMode="External"/><Relationship Id="rId5" Type="http://schemas.openxmlformats.org/officeDocument/2006/relationships/hyperlink" Target="http://itc.tgl.ru/" TargetMode="External"/><Relationship Id="rId6" Type="http://schemas.openxmlformats.org/officeDocument/2006/relationships/hyperlink" Target="http://www.school1298.ru/" TargetMode="External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2133720"/>
            <a:ext cx="858024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дение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лектронных журналов и электронных дневников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2010-2011 учебном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94000" y="115560"/>
            <a:ext cx="5850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комендации Ц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5084640"/>
            <a:ext cx="856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аспоряжение Правительства РФ № 1555-р от  17.10.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аспоряжение Правительства РФ № 1993-р от  17.12.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становление Губернатора Самарской области № 38 от 03.06.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становление мэрии г.о.Тольятти № 976-п/1 от 19.04.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риказ Департамента образования № 271 от  20.07.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99cc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ормативные доку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16000" y="1700280"/>
            <a:ext cx="75564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лжностные инструкции сотрудников О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ложение об АСУ РСО в О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ложение об электронном классном журнал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струкция классному руководителю по работе в АСУ РС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струкция для родителей по работе в АСУ РС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струкция для заместителей директоров по ВР по работе в АСУ РС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струкция для заместителей директоров по УВР по работе в АСУ РС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струкция для секретаря ОУ по работе в АСУ РС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струкция для классного руководителя по работе в АСУ РС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струкция для учителя-предметника по работе в АСУ РС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484280"/>
            <a:ext cx="7921440" cy="5184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99cc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ормативные доку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511308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0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  компании ИРТе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раздел Опыт внедрения; Методика внедрения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net-school.ru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108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  Центра информационных технолог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раздел АСУ РСО/методические материал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itc.tgl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0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  школы 1298 г.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http://www.school1298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7"/>
          <a:srcRect l="847" t="15560" r="43659" b="48432"/>
          <a:stretch/>
        </p:blipFill>
        <p:spPr>
          <a:xfrm>
            <a:off x="4788000" y="4869000"/>
            <a:ext cx="4106880" cy="1676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rcRect l="17870" t="23617" r="19861" b="2244"/>
          <a:stretch/>
        </p:blipFill>
        <p:spPr>
          <a:xfrm>
            <a:off x="4788000" y="1052640"/>
            <a:ext cx="3313080" cy="2336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rcRect l="22212" t="34212" r="23723" b="11210"/>
          <a:stretch/>
        </p:blipFill>
        <p:spPr>
          <a:xfrm>
            <a:off x="5580000" y="2852640"/>
            <a:ext cx="316872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99cc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ение пилотной груп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75564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состава пилотной группы и периодов ее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целостности выборки -включение в пилотную группу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ел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аралл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парка ПК, используемых для заполнения электронного журнала, электронного днев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овое расширение пилотной группы в течение г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полного охвата ВСЕХ классов и паралл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84280"/>
            <a:ext cx="7921440" cy="4681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99cc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тимизация работы педагог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0000" y="1341360"/>
            <a:ext cx="77724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ление графика (расписания) использования педагогами ПК, предназначенных для работы с электронными журнал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учение педагогов применению аналитического аппарата АСУ РСО для анализа успеваемости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лечение специалистов своего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лечение специалистов Ц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лечение специалистов базовых ОУ, имеющих опыт работы с электронными журна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341360"/>
            <a:ext cx="8209080" cy="532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99cc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рганизация работы с родител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формирование родителей о ведении электронного журн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язательная регистрация родителей в системе в качестве пользов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дительские собр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явления на информационных стен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пространение информационных листо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пространение памяток работы с АСУ РС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монстрация родителям возможностей АСУ РС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учение родителей работе в АСУ РС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484280"/>
            <a:ext cx="8209080" cy="496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507160" cy="1143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99cc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седание Совета по развитию информационного общества в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5229000"/>
            <a:ext cx="5977080" cy="72684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81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 качестве обязательного, мы планируем, 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012 году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2162160" cy="211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56000" y="1700280"/>
            <a:ext cx="3384360" cy="18000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81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сё-таки когда у нас в школах будут использовать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онные дневни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и возможность доступа к ним в качестве обязательного правил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rcRect l="0" t="16587" r="0" b="4908"/>
          <a:stretch/>
        </p:blipFill>
        <p:spPr>
          <a:xfrm>
            <a:off x="6443640" y="3284640"/>
            <a:ext cx="2384280" cy="266544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ая соединительная линия 33"/>
          <p:cNvSpPr/>
          <p:nvPr/>
        </p:nvSpPr>
        <p:spPr>
          <a:xfrm>
            <a:off x="468360" y="1268280"/>
            <a:ext cx="6072120" cy="18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445000"/>
            <a:ext cx="2303640" cy="64944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28000" y="65214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Тверь. Июль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2:11:35Z</dcterms:created>
  <dc:creator>aev</dc:creator>
  <dc:description/>
  <dc:language>en-US</dc:language>
  <cp:lastModifiedBy>aev</cp:lastModifiedBy>
  <dcterms:modified xsi:type="dcterms:W3CDTF">2010-09-06T06:55:09Z</dcterms:modified>
  <cp:revision>10</cp:revision>
  <dc:subject/>
  <dc:title>Слайд 1</dc:title>
</cp:coreProperties>
</file>