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586-A37A-4AD3-98B0-1528E849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340-A82C-4358-BAD3-2CF2825A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C6A-8D69-4CE2-9282-C0F26F53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962-184F-46FE-8082-74EF03BD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521D-0366-4FF0-A570-51C1D9E2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0C9C-025E-4798-A002-2A1FEA77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A8AC-024B-4FC3-80E3-98E513A0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3E7C-AE76-4D9D-BFCE-97598CDC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1937-A067-496D-9958-6C360FA0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38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B772-BB1E-4243-873D-5AC8871F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0417-96C9-41C8-9AC9-18DF65D5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30A-A105-48DD-A3DB-0BB4570C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D2FC-DCFC-437F-81E4-17B8C105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81F8-53CE-4A71-BC13-0800380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A717-D1BD-446F-BB31-AF0FF2E7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FFE8-9EE0-4E37-9C7B-BEB2929A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3A28-C52F-40AF-89B8-33819C8A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F9B-1ED1-49AA-AF9B-4BDC3D03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52F-E93B-4EC3-86FC-652E352A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440-AAE4-4383-A772-FAA8F123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38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FB2-0704-474C-825F-FA001FF0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D67-4606-4044-8E17-EBF2CF5D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4E0-261D-4DFF-BD7F-F4983E58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2CC-4FA1-44F7-A06D-4114330F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3080" y="-14400"/>
            <a:ext cx="1521000" cy="6923160"/>
            <a:chOff x="-73080" y="-14400"/>
            <a:chExt cx="1521000" cy="6923160"/>
          </a:xfrm>
        </p:grpSpPr>
        <p:grpSp>
          <p:nvGrpSpPr>
            <p:cNvPr id="1" name=""/>
            <p:cNvGrpSpPr/>
            <p:nvPr/>
          </p:nvGrpSpPr>
          <p:grpSpPr>
            <a:xfrm>
              <a:off x="-73080" y="-14400"/>
              <a:ext cx="1521000" cy="6923160"/>
              <a:chOff x="-73080" y="-14400"/>
              <a:chExt cx="1521000" cy="6923160"/>
            </a:xfrm>
          </p:grpSpPr>
          <p:sp>
            <p:nvSpPr>
              <p:cNvPr id="2" name=""/>
              <p:cNvSpPr/>
              <p:nvPr/>
            </p:nvSpPr>
            <p:spPr>
              <a:xfrm>
                <a:off x="-73080" y="-14400"/>
                <a:ext cx="1521000" cy="692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17640" y="171360"/>
                <a:ext cx="146052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-73080" y="1890720"/>
                <a:ext cx="1521000" cy="5014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3d6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"/>
            <p:cNvSpPr/>
            <p:nvPr/>
          </p:nvSpPr>
          <p:spPr>
            <a:xfrm>
              <a:off x="152280" y="2133720"/>
              <a:ext cx="152640" cy="47228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514600"/>
              <a:ext cx="152280" cy="434196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3733920"/>
              <a:ext cx="152280" cy="31226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3505320"/>
              <a:ext cx="152640" cy="3351240"/>
            </a:xfrm>
            <a:prstGeom prst="rect">
              <a:avLst/>
            </a:prstGeom>
            <a:solidFill>
              <a:srgbClr val="c3d6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C06F-C66C-4BE1-82D4-14CE88764860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22320" y="3240"/>
            <a:ext cx="1470240" cy="6869160"/>
            <a:chOff x="-22320" y="3240"/>
            <a:chExt cx="1470240" cy="6869160"/>
          </a:xfrm>
        </p:grpSpPr>
        <p:sp>
          <p:nvSpPr>
            <p:cNvPr id="51" name=""/>
            <p:cNvSpPr/>
            <p:nvPr/>
          </p:nvSpPr>
          <p:spPr>
            <a:xfrm>
              <a:off x="-22320" y="3240"/>
              <a:ext cx="1470240" cy="686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-22320" y="3200400"/>
              <a:ext cx="1470240" cy="36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3d6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-17640" y="1619280"/>
              <a:ext cx="1460520" cy="179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152280" y="3581280"/>
              <a:ext cx="1067040" cy="3275280"/>
              <a:chOff x="152280" y="3581280"/>
              <a:chExt cx="1067040" cy="3275280"/>
            </a:xfrm>
          </p:grpSpPr>
          <p:sp>
            <p:nvSpPr>
              <p:cNvPr id="55" name=""/>
              <p:cNvSpPr/>
              <p:nvPr/>
            </p:nvSpPr>
            <p:spPr>
              <a:xfrm>
                <a:off x="152280" y="3581280"/>
                <a:ext cx="152640" cy="327528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44800"/>
                <a:ext cx="152280" cy="301176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2120" y="4691160"/>
                <a:ext cx="152280" cy="216540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6680" y="4533840"/>
                <a:ext cx="152640" cy="2322720"/>
              </a:xfrm>
              <a:prstGeom prst="rect">
                <a:avLst/>
              </a:prstGeom>
              <a:solidFill>
                <a:srgbClr val="c3d6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7E9D-4386-4FE7-8984-228F67EAEF93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ntline.ru/" TargetMode="External"/><Relationship Id="rId3" Type="http://schemas.openxmlformats.org/officeDocument/2006/relationships/hyperlink" Target="http://www.intline.ru/" TargetMode="External"/><Relationship Id="rId4" Type="http://schemas.openxmlformats.org/officeDocument/2006/relationships/hyperlink" Target="http://www.intline.ru/" TargetMode="External"/><Relationship Id="rId5" Type="http://schemas.openxmlformats.org/officeDocument/2006/relationships/hyperlink" Target="http://www.intline.ru/" TargetMode="External"/><Relationship Id="rId6" Type="http://schemas.openxmlformats.org/officeDocument/2006/relationships/hyperlink" Target="http://www.intline.ru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3;&#1080;&#1082;&#1080;&#1096;&#1080;&#1085;.pp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1;&#1086;&#1073;&#1086;&#1076;&#1072;.pp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8;&#1080;&#1096;&#1080;&#1085;&#1072;.pp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54;&#1087;&#1099;&#1090;%20&#1074;&#1085;&#1077;&#1076;&#1088;&#1077;&#1085;&#1080;&#1103;%20&#1040;&#1057;&#1059;%20&#1056;&#1057;&#1054;.ppt" TargetMode="External"/><Relationship Id="rId2" Type="http://schemas.openxmlformats.org/officeDocument/2006/relationships/hyperlink" Target="file:///&#1054;&#1087;&#1099;&#1090;%20&#1074;&#1085;&#1077;&#1076;&#1088;&#1077;&#1085;&#1080;&#1103;%20&#1040;&#1057;&#1059;%20&#1056;&#1057;&#1054;.ppt" TargetMode="External"/><Relationship Id="rId3" Type="http://schemas.openxmlformats.org/officeDocument/2006/relationships/hyperlink" Target="file:///&#1054;&#1087;&#1099;&#1090;%20&#1074;&#1085;&#1077;&#1076;&#1088;&#1077;&#1085;&#1080;&#1103;%20&#1040;&#1057;&#1059;%20&#1056;&#1057;&#1054;.ppt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tc.tgl.ru/wiki/index.php/&#1057;&#1077;&#1084;&#1080;&#1085;&#1072;&#1088;_&#1058;&#1077;&#1093;&#1085;&#1086;&#1083;&#1086;&#1075;&#1080;&#1103;_&#1074;&#1085;&#1077;&#1076;&#1088;&#1077;&#1085;&#1080;&#1103;_&#1080;_&#1080;&#1089;&#1087;&#1086;&#1083;&#1100;&#1079;&#1086;&#1074;&#1072;&#1085;&#1080;&#1077;_&#1040;&#1057;&#1059;_&#1056;&#1057;&#1054;" TargetMode="External"/><Relationship Id="rId2" Type="http://schemas.openxmlformats.org/officeDocument/2006/relationships/hyperlink" Target="http://itc.tgl.ru/wiki/index.php/&#1057;&#1077;&#1084;&#1080;&#1085;&#1072;&#1088;_&#1058;&#1077;&#1093;&#1085;&#1086;&#1083;&#1086;&#1075;&#1080;&#1103;_&#1074;&#1085;&#1077;&#1076;&#1088;&#1077;&#1085;&#1080;&#1103;_&#1080;_&#1080;&#1089;&#1087;&#1086;&#1083;&#1100;&#1079;&#1086;&#1074;&#1072;&#1085;&#1080;&#1077;_&#1040;&#1057;&#1059;_&#1056;&#1057;&#1054;" TargetMode="External"/><Relationship Id="rId3" Type="http://schemas.openxmlformats.org/officeDocument/2006/relationships/hyperlink" Target="http://itc.tgl.ru/wiki/index.php/&#1057;&#1077;&#1084;&#1080;&#1085;&#1072;&#1088;_&#1058;&#1077;&#1093;&#1085;&#1086;&#1083;&#1086;&#1075;&#1080;&#1103;_&#1074;&#1085;&#1077;&#1076;&#1088;&#1077;&#1085;&#1080;&#1103;_&#1080;_&#1080;&#1089;&#1087;&#1086;&#1083;&#1100;&#1079;&#1086;&#1074;&#1072;&#1085;&#1080;&#1077;_&#1040;&#1057;&#1059;_&#1056;&#1057;&#1054;" TargetMode="External"/><Relationship Id="rId4" Type="http://schemas.openxmlformats.org/officeDocument/2006/relationships/hyperlink" Target="http://itc.tgl.ru/wiki/index.php/&#1057;&#1077;&#1084;&#1080;&#1085;&#1072;&#1088;_&#1058;&#1077;&#1093;&#1085;&#1086;&#1083;&#1086;&#1075;&#1080;&#1103;_&#1074;&#1085;&#1077;&#1076;&#1088;&#1077;&#1085;&#1080;&#1103;_&#1080;_&#1080;&#1089;&#1087;&#1086;&#1083;&#1100;&#1079;&#1086;&#1074;&#1072;&#1085;&#1080;&#1077;_&#1040;&#1057;&#1059;_&#1056;&#1057;&#1054;" TargetMode="External"/><Relationship Id="rId5" Type="http://schemas.openxmlformats.org/officeDocument/2006/relationships/hyperlink" Target="http://itc.tgl.ru/wiki/index.php/&#1057;&#1077;&#1084;&#1080;&#1085;&#1072;&#1088;_&#1058;&#1077;&#1093;&#1085;&#1086;&#1083;&#1086;&#1075;&#1080;&#1103;_&#1074;&#1085;&#1077;&#1076;&#1088;&#1077;&#1085;&#1080;&#1103;_&#1080;_&#1080;&#1089;&#1087;&#1086;&#1083;&#1100;&#1079;&#1086;&#1074;&#1072;&#1085;&#1080;&#1077;_&#1040;&#1057;&#1059;_&#1056;&#1057;&#1054;" TargetMode="External"/><Relationship Id="rId6" Type="http://schemas.openxmlformats.org/officeDocument/2006/relationships/hyperlink" Target="http://itc.tgl.ru/wiki/index.php/&#1057;&#1077;&#1084;&#1080;&#1085;&#1072;&#1088;_&#1058;&#1077;&#1093;&#1085;&#1086;&#1083;&#1086;&#1075;&#1080;&#1103;_&#1074;&#1085;&#1077;&#1076;&#1088;&#1077;&#1085;&#1080;&#1103;_&#1080;_&#1080;&#1089;&#1087;&#1086;&#1083;&#1100;&#1079;&#1086;&#1074;&#1072;&#1085;&#1080;&#1077;_&#1040;&#1057;&#1059;_&#1056;&#1057;&#1054;" TargetMode="External"/><Relationship Id="rId7" Type="http://schemas.openxmlformats.org/officeDocument/2006/relationships/hyperlink" Target="http://itc.tgl.ru/wiki/index.php/&#1057;&#1077;&#1084;&#1080;&#1085;&#1072;&#1088;_&#1058;&#1077;&#1093;&#1085;&#1086;&#1083;&#1086;&#1075;&#1080;&#1103;_&#1074;&#1085;&#1077;&#1076;&#1088;&#1077;&#1085;&#1080;&#1103;_&#1080;_&#1080;&#1089;&#1087;&#1086;&#1083;&#1100;&#1079;&#1086;&#1074;&#1072;&#1085;&#1080;&#1077;_&#1040;&#1057;&#1059;_&#1056;&#1057;&#1054;" TargetMode="External"/><Relationship Id="rId8" Type="http://schemas.openxmlformats.org/officeDocument/2006/relationships/hyperlink" Target="http://itc.tgl.ru/wiki/index.php/&#1057;&#1077;&#1084;&#1080;&#1085;&#1072;&#1088;_&#1058;&#1077;&#1093;&#1085;&#1086;&#1083;&#1086;&#1075;&#1080;&#1103;_&#1074;&#1085;&#1077;&#1076;&#1088;&#1077;&#1085;&#1080;&#1103;_&#1080;_&#1080;&#1089;&#1087;&#1086;&#1083;&#1100;&#1079;&#1086;&#1074;&#1072;&#1085;&#1080;&#1077;_&#1040;&#1057;&#1059;_&#1056;&#1057;&#1054;" TargetMode="External"/><Relationship Id="rId9" Type="http://schemas.openxmlformats.org/officeDocument/2006/relationships/hyperlink" Target="http://itc.tgl.ru/wiki/index.php/&#1057;&#1077;&#1084;&#1080;&#1085;&#1072;&#1088;_&#1058;&#1077;&#1093;&#1085;&#1086;&#1083;&#1086;&#1075;&#1080;&#1103;_&#1074;&#1085;&#1077;&#1076;&#1088;&#1077;&#1085;&#1080;&#1103;_&#1080;_&#1080;&#1089;&#1087;&#1086;&#1083;&#1100;&#1079;&#1086;&#1074;&#1072;&#1085;&#1080;&#1077;_&#1040;&#1057;&#1059;_&#1056;&#1057;&#1054;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133360"/>
            <a:ext cx="6624360" cy="21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Технология внедрения и  использование АСУ РСО </a:t>
            </a:r>
            <a:br>
              <a:rPr sz="3200"/>
            </a:b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в образовательных учреждениях </a:t>
            </a:r>
            <a:br>
              <a:rPr sz="3200"/>
            </a:b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г. о. Тольятти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400" y="611460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20 мая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2195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Решаемые задачи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981000"/>
            <a:ext cx="7667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ля всех участников учебно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воспитатель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единая среда обмена информацией в рамках школы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доска объявлений, каталог школьных ресурсов, портфолио, форум, список именинников и т.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Главная особенность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СУ РСО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в том, что все задачи решаются комплексно, на основе системного подход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СУ РСО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позволяет создать действительно единую информационную среду в школе, причем вовлечь в этот процесс не только сотрудников школы, но и учащихся 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Интегрированные учебные курсы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847880"/>
            <a:ext cx="5724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Электронная Библиотека «Просвещение» (разработчик — компания «Просвещение-МЕДИА»,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ww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pmedia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ru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);</a:t>
            </a: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Учебно-методический комплекс для изуче-</a:t>
            </a: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ния английского языка «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Reward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» (подроб-</a:t>
            </a: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ная информация на сайте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ww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reward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ru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);</a:t>
            </a:r>
            <a:br>
              <a:rPr sz="2200"/>
            </a:b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Серия «Все задачи школьной математики» (разработчик — компания «Интерактивная линия», </a:t>
            </a:r>
            <a:r>
              <a:rPr b="0" lang="en-US" sz="2200" spc="-1" strike="noStrike" u="sng">
                <a:solidFill>
                  <a:srgbClr val="c9606f"/>
                </a:solidFill>
                <a:uFillTx/>
                <a:latin typeface="Arial"/>
                <a:hlinkClick r:id="rId2"/>
              </a:rPr>
              <a:t>www</a:t>
            </a:r>
            <a:r>
              <a:rPr b="0" lang="ru-RU" sz="2200" spc="-1" strike="noStrike" u="sng">
                <a:solidFill>
                  <a:srgbClr val="c9606f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200" spc="-1" strike="noStrike" u="sng">
                <a:solidFill>
                  <a:srgbClr val="c9606f"/>
                </a:solidFill>
                <a:uFillTx/>
                <a:latin typeface="Arial"/>
                <a:hlinkClick r:id="rId4"/>
              </a:rPr>
              <a:t>intline</a:t>
            </a:r>
            <a:r>
              <a:rPr b="0" lang="ru-RU" sz="2200" spc="-1" strike="noStrike" u="sng">
                <a:solidFill>
                  <a:srgbClr val="c9606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200" spc="-1" strike="noStrike" u="sng">
                <a:solidFill>
                  <a:srgbClr val="c9606f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5292720" y="1700280"/>
            <a:ext cx="36417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Интегрированные учебные курсы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84464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теграция с учебными курсами — более глубокая, чем просто запуск курсов из единой оболочки, это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озможность назначить учащемуся задание по материалу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беспечить вызов нужной «страницы» учебного пособ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сле того как учащийся выполняет задание, оценка автоматически выставляется в электронный классный журн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ценка будет также автоматически выставлена в электронный дневник, где её смогут увидеть учащийся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собый интерес представляют сетевые версии данных учебных курсов, поскольку требуют только одной лицензии на класс и имеют более широкие возможности по взаимодействию учащегося и препода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Рекомендации безопасности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1846440"/>
            <a:ext cx="75963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держать в системе АСУ РСО минимальное число пользователей с правами администратора, или предоставлять права администратора на короткое врем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 возможности ограничивать права других пользователей АСУ РСО (завуч, учитель), предоставляя минимальные права на изменение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тановить параметр «время неактивности» как можно меньше для пользователей, имеющих доступ к важным данным; для администратора этот параметр рекомендуется задавать не более 5-10 мину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Рекомендации безопасности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2133720"/>
            <a:ext cx="75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•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се пользователи должны знать, что для завершения работы в АСУ РСО нужно не просто закрывать окно браузера, а выбирать «Выход» в главном мен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•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ребуется разъяснить пользователям АСУ РСО некоторые простые принципы создания пароля, которые затруднят подбор пароля посторонними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•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ъяснить пользователям недопустимость разглашения своего па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•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стоятельно рекомендовать пользователям периодически (например, раз в месяц) менять свой пароль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Опыт внедрения АСУ РСО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1773360"/>
            <a:ext cx="68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Внедрение в УЗах происходит с  2001 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По состоянию на 3 мая 2007 г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активными пользователям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системы являются более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500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школ России и стран СН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Накоплен большой опыт использования в таких регионах как Москва, Самарская обл., Тюменская обл., Татарстан, Красноярский край, Челябинская обл., Алтайский край, Якутия, ЯНАО и др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03280" y="1268280"/>
            <a:ext cx="7740720" cy="522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Опыт внедрения АСУ РСО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6276960"/>
            <a:ext cx="766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тносительное количество пользователей </a:t>
            </a:r>
            <a:r>
              <a:rPr b="0" i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АСУ РСО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 в регион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(показано плотностью цветовой заливк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11280" y="1628640"/>
            <a:ext cx="6732720" cy="21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Итоги первого этапа внедрения системы </a:t>
            </a:r>
            <a:br>
              <a:rPr sz="3200"/>
            </a:b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АСУ РСО  в образовательных учреждениях г. о. Тольятти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908000" y="4723920"/>
            <a:ext cx="683280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Методист МОУ ДПОС Центра информационных технолог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9606f"/>
                </a:solidFill>
                <a:uFillTx/>
                <a:latin typeface="Arial"/>
                <a:hlinkClick r:id="rId1"/>
              </a:rPr>
              <a:t>Владимир Александрович Ники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195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68000" y="1628640"/>
            <a:ext cx="7417080" cy="21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Подготовка базы данных к </a:t>
            </a: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IV</a:t>
            </a: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 отчетному периоду, правила и сроки процедуры «Завершение года»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908000" y="4723920"/>
            <a:ext cx="683280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Методист МОУ ДПОС Центра информационных технолог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9606f"/>
                </a:solidFill>
                <a:uFillTx/>
                <a:latin typeface="Arial"/>
                <a:hlinkClick r:id="rId1"/>
              </a:rPr>
              <a:t>Светлана Юрьевна Л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195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40000" y="1628640"/>
            <a:ext cx="7345440" cy="21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Подготовка базы данных </a:t>
            </a:r>
            <a:br>
              <a:rPr sz="3200"/>
            </a:b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к заполнению форм государственной статистической отчетности</a:t>
            </a:r>
            <a:br>
              <a:rPr sz="3200"/>
            </a:b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 в АСУ РСО</a:t>
            </a:r>
            <a:r>
              <a:rPr b="0" i="1" lang="ru-RU" sz="4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08000" y="4723920"/>
            <a:ext cx="683280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Методист МОУ ДПОС Центра информационных технолог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9606f"/>
                </a:solidFill>
                <a:uFillTx/>
                <a:latin typeface="Arial"/>
                <a:hlinkClick r:id="rId1"/>
              </a:rPr>
              <a:t>Александра Михайловна Ти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195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Цель семинара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7280" y="1774080"/>
            <a:ext cx="777744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тимизация процессов сбора отчетной информации,  по движению обучающихся и государственной статистической отчетности муниципальных образовательных учрежд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ение перспектив расширения области внедрения АСУ РСО в ОУ г. о Тольят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63640" y="768240"/>
            <a:ext cx="7380360" cy="6089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780000" y="1341360"/>
            <a:ext cx="216036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ерв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АСУ Р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-17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Архитектура АСУ Р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5950080"/>
            <a:ext cx="298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3640" y="4005360"/>
            <a:ext cx="86508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3933720"/>
            <a:ext cx="86508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860640"/>
            <a:ext cx="86508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69440" y="3789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301"/>
                </a:moveTo>
                <a:lnTo>
                  <a:pt x="6143" y="7301"/>
                </a:lnTo>
                <a:lnTo>
                  <a:pt x="6526" y="7667"/>
                </a:lnTo>
                <a:lnTo>
                  <a:pt x="15735" y="7667"/>
                </a:lnTo>
                <a:lnTo>
                  <a:pt x="16292" y="8224"/>
                </a:lnTo>
                <a:lnTo>
                  <a:pt x="16292" y="8772"/>
                </a:lnTo>
                <a:lnTo>
                  <a:pt x="18137" y="8772"/>
                </a:lnTo>
                <a:lnTo>
                  <a:pt x="18502" y="8224"/>
                </a:lnTo>
                <a:lnTo>
                  <a:pt x="19242" y="8224"/>
                </a:lnTo>
                <a:lnTo>
                  <a:pt x="19242" y="13376"/>
                </a:lnTo>
                <a:lnTo>
                  <a:pt x="18502" y="13376"/>
                </a:lnTo>
                <a:lnTo>
                  <a:pt x="18137" y="12828"/>
                </a:lnTo>
                <a:lnTo>
                  <a:pt x="16292" y="12828"/>
                </a:lnTo>
                <a:lnTo>
                  <a:pt x="16292" y="14107"/>
                </a:lnTo>
                <a:lnTo>
                  <a:pt x="6709" y="14107"/>
                </a:lnTo>
                <a:lnTo>
                  <a:pt x="6709" y="9877"/>
                </a:lnTo>
                <a:lnTo>
                  <a:pt x="6526" y="9877"/>
                </a:lnTo>
                <a:lnTo>
                  <a:pt x="6143" y="10243"/>
                </a:lnTo>
                <a:lnTo>
                  <a:pt x="5229" y="102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1280" y="1628640"/>
            <a:ext cx="6948720" cy="21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Опыт работы образовательных учреждений</a:t>
            </a:r>
            <a:br>
              <a:rPr sz="3200"/>
            </a:b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 в АСУ РСО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476000" y="4723920"/>
            <a:ext cx="726444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Инженер МОУ школы № 9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9606f"/>
                </a:solidFill>
                <a:uFillTx/>
                <a:latin typeface="Arial"/>
                <a:hlinkClick r:id="rId1"/>
              </a:rPr>
              <a:t>Сергей Валерьевич </a:t>
            </a:r>
            <a:r>
              <a:rPr b="0" lang="ru-RU" sz="2400" spc="-1" strike="noStrike" u="sng">
                <a:solidFill>
                  <a:srgbClr val="c9606f"/>
                </a:solidFill>
                <a:uFillTx/>
                <a:latin typeface="Arial"/>
                <a:hlinkClick r:id="rId2"/>
              </a:rPr>
              <a:t>Копнинов</a:t>
            </a:r>
            <a:r>
              <a:rPr b="0" lang="ru-RU" sz="2400" spc="-1" strike="noStrike" u="sng">
                <a:solidFill>
                  <a:srgbClr val="c9606f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Учитель информатики и ИКТ МОУ школы № 93 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Елена Дмитриевна Ворона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1628640"/>
            <a:ext cx="2195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11280" y="1628640"/>
            <a:ext cx="6948720" cy="21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99"/>
                </a:solidFill>
                <a:latin typeface="Arial"/>
              </a:rPr>
              <a:t>Материалы семинара</a:t>
            </a:r>
            <a:endParaRPr b="0" i="1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68360" y="5949720"/>
            <a:ext cx="841680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9606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c9606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c9606f"/>
                </a:solidFill>
                <a:uFillTx/>
                <a:latin typeface="Arial"/>
                <a:hlinkClick r:id="rId3"/>
              </a:rPr>
              <a:t>itc.tgl.ru</a:t>
            </a:r>
            <a:r>
              <a:rPr b="0" lang="ru-RU" sz="2800" spc="-1" strike="noStrike" u="sng">
                <a:solidFill>
                  <a:srgbClr val="c9606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c9606f"/>
                </a:solidFill>
                <a:uFillTx/>
                <a:latin typeface="Arial"/>
                <a:hlinkClick r:id="rId5"/>
              </a:rPr>
              <a:t>wiki</a:t>
            </a:r>
            <a:r>
              <a:rPr b="0" lang="ru-RU" sz="2800" spc="-1" strike="noStrike" u="sng">
                <a:solidFill>
                  <a:srgbClr val="c9606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c9606f"/>
                </a:solidFill>
                <a:uFillTx/>
                <a:latin typeface="Arial"/>
                <a:hlinkClick r:id="rId7"/>
              </a:rPr>
              <a:t>index.php</a:t>
            </a:r>
            <a:r>
              <a:rPr b="0" lang="ru-RU" sz="2800" spc="-1" strike="noStrike" u="sng">
                <a:solidFill>
                  <a:srgbClr val="c9606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800" spc="-1" strike="noStrike" u="sng">
                <a:solidFill>
                  <a:srgbClr val="c9606f"/>
                </a:solidFill>
                <a:uFillTx/>
                <a:latin typeface="Arial"/>
                <a:hlinkClick r:id="rId9"/>
              </a:rPr>
              <a:t>Семинар_Технология_внедрения_и_использование_АСУ_Р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0" y="1628640"/>
            <a:ext cx="2195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2195640" cy="2009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3059280" y="1630440"/>
            <a:ext cx="475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2997360"/>
            <a:ext cx="5905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Модель взаимодействия    </a:t>
            </a:r>
            <a:br>
              <a:rPr sz="3200"/>
            </a:b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 через АСУ РСО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022480" y="1197000"/>
            <a:ext cx="67262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768240"/>
            <a:ext cx="7380360" cy="608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80000" y="1341360"/>
            <a:ext cx="216036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ерв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АСУ Р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-17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Архитектура АСУ Р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950080"/>
            <a:ext cx="298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4005360"/>
            <a:ext cx="86508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3933720"/>
            <a:ext cx="86508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3860640"/>
            <a:ext cx="86508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526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Типы пользователей системы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76520" y="1484280"/>
            <a:ext cx="746748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завуч/дирек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еподаватель/классный руководи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че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оди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хнический персон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дминистратор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аждый пользователь имеет индивидуальные имя и пароль для входа в систему. Права доступа к разным частям базы данных школы могут гибко настра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Решаемые задачи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268280"/>
            <a:ext cx="7380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ля администрац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перативное получение и обобщение информации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б учебном процессе для принятия управленческих ре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едение алфавитных книг, личных дел сотрудников, учащихся,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едение расписания уроков, школьных и классных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ониторинг движения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здание системы школьного документообор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втоматизированное составление отчетности для управления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нструирование собственных от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Решаемые задачи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ля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оступ к электронному дневнику своего ребёнка, куда автоматически выставляются оценки и сведения о посещаем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оступ к расписанию своего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лучение отчётов об успеваемости и посещаемости своего ребёнка, в том числе в сравнении с классом и параллел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S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–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99"/>
                </a:solidFill>
                <a:latin typeface="Times New Roman"/>
              </a:rPr>
              <a:t>Решаемые задачи</a:t>
            </a:r>
            <a:endParaRPr b="0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198900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ля учащих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оступ к последней версии своего распис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оступ к своему электронному дневнику с оценками, домашними заданиями и задолженностями по предме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лучение отчетов о своей успеваемости и посещаем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едение портфолио своих проектов и дост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3d6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2089080" cy="1913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Решаемые задачи</a:t>
            </a:r>
            <a:endParaRPr b="0" i="1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1268280"/>
            <a:ext cx="75614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ля учителей-предметников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едение электронного классного журнала, календарно-тематических планов, просмотр от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рганизация тестирования (в т.ч. подготовка к ЕГЭ) отдельных учеников или всего кл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абота с мультимедийными учебными курсами на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M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, подключенными к электронному классному журналу «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Школ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рганизация проектной деятельности: хранилище материалов проекта, список участников проекта с настройкой прав досту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оступ к федеральному перечню учебных изданий и готовым планам к учебникам, утверждённым Министерством образования РФ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5:53:26Z</dcterms:created>
  <dc:creator>kgv</dc:creator>
  <dc:description/>
  <cp:keywords/>
  <dc:language>en-US</dc:language>
  <cp:lastModifiedBy>kgv</cp:lastModifiedBy>
  <dcterms:modified xsi:type="dcterms:W3CDTF">2008-05-20T07:51:44Z</dcterms:modified>
  <cp:revision>25</cp:revision>
  <dc:subject/>
  <dc:title>Технология внедрения и  использование АСУ РСО в образовательных учреждениях г. о. Тольят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51049</vt:lpwstr>
  </property>
</Properties>
</file>